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755-CFDC-4A1A-AF03-719805DF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607-6475-42E0-8DFB-2F3F2A8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EAE-953D-49BE-AC97-E6F5A907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80F-96A6-4F8A-B09B-DAA46C4A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BCB-5FB5-4EE3-900E-499AA9D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CF8-C692-4E4A-805A-FD1139D0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3D8-3CF4-4C56-B3FA-364647D6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12-312E-42EF-B508-7528AE9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334-B465-4EAF-8687-23CDEE6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2A2-E953-4EA7-A414-8A38B10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F4F-49B2-4332-B6DC-0ACDB72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136-D0A8-4CD3-9425-75C4243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F1B4-C688-4EFC-9E94-E9DC31DC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νακάλυψη ενδιάμεσων μποζονίων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l-GR" sz="4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Καππάτου Αθην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Σεμινάριο Φυσικής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36000" y="54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/7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A63-55F6-4249-B538-2E9A5F5C63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η πράξη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931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ια να παράγουμε σωματίδια μάζ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έπει να έχουμ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αθέσιμη ενέργεια 9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ια να μετατραπεί σε μάζ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N 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πορεί να επιταχύνει πρωτόνια σε πολλές εκατοντάδε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λά η διαθέσιμη ενέργεια όταν το πρωτόνια προσκρούει σε σταθερό στόχο η διαθέσιμη ενέργεια είναι μικρή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Διατήρηση γραμμικής ορμής: το πρωτόνιο φέρει μεγάλη ορμή και άρα τα προϊόντα της αντίδρασης πρέπει να μεταφέρουν μεγάλη ορμή (μεγάλες κινητικές ενέργειε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530440" cy="193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DFD-F06B-4806-AA83-E8F628B974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η ιδέ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13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bbi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υπάρχοντα σύγχροτρα πρωτονίων γ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να επιταχυνθούν ταυτόχρονα αντιπρωτόνι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να κινηθούν σε πολύ κοντινές αλλ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τίθετες τροχιές με πρωτόν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ιατ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τά τη σύγκρουση των δύο δεσμών η συνολική ενέργεια στο κέντρο μάζας είναι μεγάλη ενώ η ορμή του συστήματος μηδέν. Όλη η ενέργεια είναι διαθέσιμη να μετατραπεί σε μάζ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20000" y="1125360"/>
            <a:ext cx="1671480" cy="25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2B9-BB4F-4ECD-AE2B-4BB9563DC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4" dur="indefinite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5" dur="indefinite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ελικά όμως σε τι ενέργειες πρέπει να επιταχυνθούν τα πρωτόνι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τα αντιπρωτόνι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rk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τα γλουόνια που συμμετέχουν φέρουν μόνο ένα τμήμα της ενέργειας του πρωτ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Χρειαζόμαστε μια σύγκρουση πρωτονίου 27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ε αντιπρωτόνιο 27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, ώστε η διαθέσιμη ενέργεια όταν έν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rk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ό το πρωτόνιο εξαϋλώνει έν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quark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ό το αντιπρωτόνιο να είναι αρκετή για την παραγωγή σωματιδίων περίπου 80-9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4BB-CA35-4EBA-BF46-E16E0C99A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30268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S </a:t>
            </a:r>
            <a:r>
              <a:rPr b="0" lang="el-G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αραγωγή και αποθήκευση αντιπρωτον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έσμη πρωτονίων 2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ό ένα μικρότερο σύγχροτρ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ε στόχο βολφραμίου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1 αντιπρωτόνιο κάθε ένα εκατομμύριο 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δηγούνται σε ένα δακτύλιο από μαγνήτες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proton Accumulator)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α 3,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τα αντιπρωτόνι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350-5F07-4988-BC5F-DE88E2863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τα αντιπρωτόνι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7859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αντιπρωτόνια έχουν ευρύ φάσμα σχετικιστικής ορμής και θα χαθούν αν οδηγηθούν απευθείας στο σύγχροτρ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ερμική’ κίν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on Van der Meer (19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ηχανισμός στοχαστικής ψύ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3349440" cy="218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5122800"/>
            <a:ext cx="273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ετά από 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έχουμε περίπου 10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αντιπρωτόν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1746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B2E-DDF9-4942-9278-7DE5FB1C5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πρωτόνια επιταχύνονται σ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α 2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μεταφέρονται σ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αντιπρωτόνια μεταφέρονται από 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, όπου επιταχύνονται από τα 3,5 στα 2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μεταφέρονται σ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δύο δέσμες που περιστρέφονται αντίθετα επιταχύνονται από τα 28 στα 27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(ή 3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δύο δέσμες οδηγούνται σε σύγκρουση σε συγκεκριμένα σημεία όπου υπάρχουν ανιχνευτές, κάτω από την επιφάνεια της γης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ground areas,U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συγκρούσεις με μόρια αερίου που έχουν ξεμείνει στον αγωγό και άλλες διεργασίες οδηγούν στην εξασθένιση της δέσμης μετά από περίπου 24 ώρε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η διαδικασί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E7B-07AB-4EAC-BC54-32BCCD534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081920" cy="616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176-B934-44BD-B700-253901D876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ε συγκρούσεις μ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αντι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των 27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αμένεται μία λεπτονική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άσπαση σε κάθε 100 εκατομμύρια αλληλεπιδρ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λεπτονικές Ζ διασπάσεις είναι 10 φορές πιο σπάνι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ινηματικ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φού τα μποζόνι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,Z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αράγονται σε ηρεμία, τα λεπτόνια που παράγονται από τη διάσπασή τους θα έχουν ίσες και αντίθετες ορμές. Οι μάζες τους είναι μικρές άρα έχουμε σχετικιστική κινηματικ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=1/2M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, αναμενόταν περίπου 4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τι μετράμ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CD5-8554-4659-A0E1-0CD6B5DFF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136160"/>
            <a:ext cx="86756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Όμως η πειραματική μεταβλητή που μετράται είναι η συνιστώσα της ενέργειας που είναι εγκάρσια στον άξονα της δέσμ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= 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Όλες οι άλλες διαδικασίες παράγουν ένα αμελητέο υπόβαθρο λεπτονίων υψηλών Ε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, ακόμα και αν συγκριθούν με τη χαμηλή συχνότητα γεγονότων των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,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Άρ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υψηλή εγκάρσια ενέργεια υποδεικνύει την ύπαρξ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τι μετράμ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B63-CCC9-4829-80AD-7C100A3110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τα πειράματα (1982-83)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1: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ακάλυψ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2: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ανακάλυψ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,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επιβεβαίωση παρατήρησης 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Υπόγειοι πειραματικοί χώρ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υνολικά 5,8μ μήκος και 2,3μ διάμετ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4B0-DE2C-43CD-84BD-6AF96C803B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Ασθενείς αλληλεπιδράσει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ικρή εμβέλει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(10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-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,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1000φορές μικρότερη της ισχυρής πυρηνικής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Ισχύ 10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φορές τη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υπεύθυνη για ακτινοβολία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β-διάσπαση νετρονίου και πρωτ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επτόνια κα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09B-80EC-4032-8ED3-9C9972E36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2081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ύρω από τον αγωγό της δέσμης υπάρχει ο κεντρικός ανιχνευτής που αποτελείται απ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ft chamber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ε ημικυλινδρικά τμ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έσα σε κάθε θάλαμο υπάρχουν επίπεδα με καλώδια σε διαστήματα 0,2μ σε δυναμικό 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. Το ενδιάμεσο είναι αιθάνιο/αργό σε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φορτισμένα σωματίδια που διασχίζουν το αέριο ιονίζουν τα μόρια και αυτά τα ιόντα οδηγούνται στα σύρματα. Διαβάζουμε τους παλμούς από τα 6000 καθοδικά καλώδια (με ηλεκτρονική ενίσχυσ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κεντρικός ανιχνευτή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BBC-D814-4F48-BCBD-55686D7971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κεντρικός ανιχνευτή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Ένα πηνί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mholtz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ουμινίου γύρω από τον κεντρικό ανιχνευτή παρέχει μαγνητικό πεδίο 0,7 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ό τις καμπύλες τροχιές των φορτισμένων σωματιδίων λόγω του μαγνητικού πεδίου μπορούμε να υπολογίσουμε την ορμή (και την ενέργεια) των σωματιδ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54600" y="981000"/>
            <a:ext cx="4038480" cy="394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5487840"/>
            <a:ext cx="82803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Γύρω από τον κεντρικό ανιχνευτή υπάρχουν διάφορα στρώματα που ξεχωρίζουν κάθε είδος σωματιδίο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523-7DBC-4217-BB20-50B0A7E6E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35640" cy="38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32F-6409-4863-BA2D-90BEB08A7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ίχνευση = απορρόφηση και μέτρηση της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 ενέργειας των σωματιδ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υσιαστικά να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αματήσουμε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gt;&gt;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τα σωματίδ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λορίμετ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λειστοί κύλινδροι που εκτείνονται μέχρι 0,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από τον άξονα της δέσ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νίχνευση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D55-0922-4450-A243-4B61A59378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38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9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1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385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385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6" dur="385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8" dur="385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385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3" dur="385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5" dur="385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7" dur="385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Ηλεκτρόνι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512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Αλληλεπιδρούν ηλεκτρομαγνητ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ο ηλεκτρομαγνητικό καλορίμετρο αποτελείται από εναλλασσόμενα φύλλα μολύβδου και σπινθηρισ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Όταν ένα υψηλής ενέργειας ηλεκτρόνιο ή ποζιτρόνιο περάσει κοντά από ένα βαρύ πυρήνα επιβραδύνεται από το ισχυρό ηλεκτρικό πεδίο και εκπέμπει ένα φωτόνι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ο φωτόνιο μπορεί να μετατραπεί σε ζεύγος ηλεκτρονίου-ποζιτρονί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Αυτό συνεχίζεται </a:t>
            </a:r>
            <a:r>
              <a:rPr b="0" lang="el-G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on shower.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457440" cy="30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97D-20D7-4C5A-9B30-AD88452F10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4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4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4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θώς τα φορτισμένα σωματίδια διασχίζουν το σπινθηριστή προκαλούν ιονισμό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εκπομπή φωτός από τα διεγερμένα μόρι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ωτοπολλαπλασιαστές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ηλεκτρικός παλμός αυστηρά ανάλογος με την ενέργεια που εναποτέθηκε στο καλορίμετ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ρκετά παχύ ώστε να μη το διαπερνούν τα ηλεκτρόν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παλμοί αθροίζονται για να προκύψει η ενέργεια του αρχικού ηλεκτρονίου ή ποζιτρονίου και η θέση το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Ηλεκτρόνι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BBA-82C6-4B40-A7FF-C54A1FEF19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5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δρό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200 φορές μεγαλύτερη μάζ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πιταχύνονται λιγότερο από πυρηνικά πεδ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πάνια δημιουργούν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magnetic sh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Ισχυρές αλληλεπιδράσεις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dronic shower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αχύτερα στρώματα – σίδηρος 0,8μ με στρώματα σπινθηριστ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είσδυση αδρονίων 1 στα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705-C4D5-498C-8055-24477469C5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4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4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4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4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4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4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4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4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Μιό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200 φορές η μάζα του ηλεκτρ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εν αλληλεπιδρούν ισχυρά (ούτ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magnetic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ύτ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dronic shower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ασχίζουν και τα δύο καλορίμετρα ιονίζοντας κάθε υλικό που διασχίζουν – μικροί χαρακτηριστικοί παλμοί (φωτοπολλαπλασιαστέ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ιο ακριβή σήματα: παχιά στρώματ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ft chamber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γύρω από το αδρονικό καλορίμετρ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2B4-4850-40DD-8D97-7F559FCE30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Νετρί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ασθενείς αλληλεπιδρ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νένα ίχνος στην συσκευ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επειδή παρουσιάζεται περίσσευμα  ενέργειας στην κατεύθυνση την αντίθετη από το νετρί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 η ενέργεια που εναποτίθεται σε κάθε κελί καλοριμέτρου επί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, όπου θ είναι η γωνία ανάμεσα στον άξονα της δέσμης και τη γραμμή που ενώνει το σημείο σύγκρουσης με το κελ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0,2μοίρες: χάνονται πολύ ενεργητικά σωματίδια, τα οποία όμως συνεισφέρουν πολύ λίγο στην Ε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EBC-7BF5-4A7F-8D4D-ECCD0F0D2F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2320" y="414360"/>
            <a:ext cx="7837560" cy="55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5A3-CE01-4F7F-A22F-2E5D7646AA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497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ην ηλεκτρομαγνητική αλληλεπίδραση έχουμε εκπομπή φωτ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τά την εκπομπή φωτονίου μοιάζει να παραβιάζεται η αρχή διατήρησης ενέργειας που αποκαθίσταται όταν ξαναπορροφηθεί το φωτόνι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ην πραγματικότητα όμω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29527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463-E4E6-401E-9863-2447009A9F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9760" y="276120"/>
            <a:ext cx="8123040" cy="58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145-E681-4A5E-AD63-0B0BD00093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η επεξεργασί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70000 λέξεις για κάθε γεγον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ηλλεπιδράσεις με συχνότητα 7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1 στις 10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αναμένεται να δώσε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Z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ρήγορη ηλεκτρονική επιλογή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g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82D-45A4-4FDB-A5E5-9DDFCDA547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Κριτήρια επιλογής </a:t>
            </a:r>
            <a:r>
              <a:rPr b="0" lang="el-G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 διάσπαση σε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λεκτρόνια υψηλής ενέργειας σε γωνίες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στο ηλεκτρομαγνητικό καλορίμετρο με εγκάρσια ενέργεια μεγαλύτερη των 1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,5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ροχιά στον θάλαμο ολίσθησης που αντιστοιχεί σε εγκάρσια ορμή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7GeV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1/100 των γεγονό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έγιστη ενέργεια 600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ο αδρονικό καλορίμετρο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346 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οκλείουμε αυτά που εμφανίζουν πίδακ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et)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55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3 γεγονότα – μη εκπομπή νετρίνου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52 γεγονότ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οκλείουμε γεγονότα με έλλειμμα ενέργειας μικρότερο από τη διακριτική ικανότητα του ανιχνευτ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οκλείουμε γεγονότα που μετρήθηκαν σε μη αξιόπιστα σημεία των καλοριμέτρ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ομένουν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43 γεγονότ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3BF-C58A-430F-AB2F-525196A24C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6278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α ηλεκτρόνια που προέρχονται απ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διάσπαση συνοδεύονται από ένα νετρίνο στην αντίθετη κατεύθυν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Για κάθε γεγονός προσθέτουμε διανυσματικά τις εγκάρσιες ενέργειες για κάθε κελί του καλορίμετρ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έλλειμα εγκάρσιας ενέργειας που φτάνει περίπου τα 40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V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 συμβατή τιμή με την εκπομπή νετρίν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Από το σχήμα αποδεικνύεται ότι το έλλειμμα ενέργειας είναι στην αντίθετη κατεύθυνση με το ηλεκτρόν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ελικά κάποιο σωματίδιο μεγάλης μάζας παράγεται, το οποίο διασπάται σε ηλεκτρόνιο και νετρίν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οινή προέλευση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αι 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879640" cy="27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A5C-FF58-40C1-B5ED-0E7784B382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402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ύο ενδεχόμε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ν       Ν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ν ν    ΟΧ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η τιμή της εγκάρσιας ενέργειας μετριέται, άρα μπορούμε να υπολογίσουμε την εγκάρσια μάζα Μ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&lt;=Μ με κατανομή που έχει μέγιστο λίγο πριν το Μ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τ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=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οκύπτει ότι το σωματίδιο αυτό έχει μάζα περίπου 8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486240" cy="2828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19280" y="5078520"/>
            <a:ext cx="7777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όβλεψη ηλεκτρασθενούς μοντέ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ριθμό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W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BCA-FB94-4797-927F-3FBBA047AE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l-G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 +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502920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72360" y="544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ύο γεγονότα σ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780-350F-431D-ACC8-90D226B162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916360" y="1125000"/>
            <a:ext cx="5759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σθενής αλληλεπίδρασ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ασυμμετρί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(κατοπτρισμό,φορτί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αριστερόστροφα σωματίδια και δεξιόστροφα αντισωματίδ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 γωνιακή κατανομή του ηλεκτρονίου ή ποζιτρονίου είναι (1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*), όπου θ* η γωνία ανάμεσα στο εισερχόμενο πρωτόνιο ή αντιπρωτόνιο και το εξερχόμενο ηλεκτρόνιο ή ποζιτρόνι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πιβεβαίωση της ασυμμετρ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1911240" cy="266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825560" cy="2187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ασυμμετρί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D3F-9054-4A40-BDA7-CB3172FA96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α ηλεκτρόνια συνοδεύονται από νετρίν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ην αντίθετη κατεύθυν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συμμετρ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κόμα ένας έλεγχ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νεργός διατομή σ Β = 0,5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ενώ αναμενόμενη 0,39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πιτυχείς όλοι οι έλεγχο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Υπολογισμός της μάζα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Δηλαδή έχουμε πράγματι δημιουργία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8C7-4BA8-48EE-BDDD-4E86957C21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77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2" dur="77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6" dur="77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M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ο καλύτερ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α πειραματικά δεδομένα έδωσε για τη μάζα το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την τιμή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80.9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όπου τα σφάλματα είναι στατιστικά και συστηματ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 προβλεπόμενη τιμή είν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83.0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0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έλεια συμφωνία των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1,U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ε το ηλεκτρασθενές μοντέλ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765520" cy="224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1B0-EBB6-472C-9CD0-2FC66ACCFC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0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Επιλογή κριτηρίων </a:t>
            </a:r>
            <a:r>
              <a:rPr b="0" lang="el-G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 διάσπαση σε 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όνο τ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1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έχει ανιχνευτή μιον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τίστοιχα κριτή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πιπλέον να αποκλειστούν κοσμικές ακτίνες, διασπάσεις Κ μεσονίων και γεγονότα με φαινόμενα πίδα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14 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fit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ια τη μάζ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8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0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νεργός διατομή 0,6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03B-D631-4883-AABE-0B39E91C75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0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τάνει η ενέργει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αραβίασης ΔΕ να διαρκεί μόνο για χρόνο 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έτοιο ώστε να ισχύει 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ρχή απροσδιοριστίας το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senbe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Ε 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/2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ωτόνια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κβάντα του ηλεκτρομαγνητικού πεδίου και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ctor boson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(στατιστική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se-Eins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n = 1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7B9-14FF-434A-AB71-C020CBB669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Παρατήρηση μποζονίου Ζ</a:t>
            </a:r>
            <a:r>
              <a:rPr b="0" lang="el-GR" sz="4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οιχεία ύπαρξης ουδέτερων ρευμάτων 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Ρυθμός παραγωγής μια τάξη μεγέθους μικρότερ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Χρειαζόταν το μεγαλύτερο δείγμα του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ι διασπάσεις του Ζ σε δύο φορτισμένα σωματίδια πιο εύκολο να ανιχνευτούν γιατί μπορούν να μετρηθούν ταυτόχρονα οι ορμές και των δύο λεπτον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 μάζα του Ζ είναι απλά η αναλλοίωτη μάζα του ζεύγους λεπτον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028-FE17-4A56-8EF3-3D18162B77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l-G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λεκτρόνιο: εναπόθεση ενέργειας μεγαλύτερης των 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ε δύο συνεχόμενες ανιχνευτικές μονάδες  (με μικρή εναπόθεση στα από πίσω αδρονικά καλορίμετρ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πομονωμένα άρα εγκάρσια ορμή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063680" cy="3557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313848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8CF-73E1-47C7-8FA6-97F8EAC565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7" dur="indefinite" restart="never" nodeType="tmRoot">
          <p:childTnLst>
            <p:seq>
              <p:cTn id="1708" dur="indefinite" nodeType="mainSeq">
                <p:childTnLst>
                  <p:par>
                    <p:cTn id="1709" fill="hold">
                      <p:stCondLst>
                        <p:cond delay="0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3040" y="836640"/>
            <a:ext cx="3973680" cy="5289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118040" cy="28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2764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Ζ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414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Ζ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530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E2C-7096-4DEF-BA97-6C706C8A05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M</a:t>
            </a:r>
            <a:r>
              <a:rPr b="0" lang="el-GR" sz="4400" spc="-1" strike="noStrike" baseline="-25000">
                <a:solidFill>
                  <a:srgbClr val="000000"/>
                </a:solidFill>
                <a:latin typeface="Comic Sans MS"/>
              </a:rPr>
              <a:t>Ζ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: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οβλεπόμενη τιμή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ο αποτέλεσμα επιβεβαιώθηκε και από το πείραμ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95928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296-9DB3-4BB2-8E57-0EFCE67B8F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0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60"/>
                            </p:stCondLst>
                            <p:childTnLst>
                              <p:par>
                                <p:cTn id="17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3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Επιτυχί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ωστές μάζ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συμμετρί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άσπ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ωστοί ρυθμοί παραγωγ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Τεχνολογικός Θρίαμβ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πιβεβαίωση του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ndar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νοίγει ο δρόμος για την ενοποίηση όλων των δυνάμεω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F27-DDC1-4066-BD64-BF9F0A9E2D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Βιβλιογραφ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.Kenyon: The discovery of Intermediate Vector Boson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o Rubbia: Experimental Observation Of The Intermediate Vector Bos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Nobel Lecture, 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Radermacher: 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perimental Discovery Of The Intermediate Vector Bos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the CERN p,anti-p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mon van der Meer: Stochastic Cooling and the Accumulation of Antiprotons (Nobel Lecture,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tigious Discoveries at CERN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5E6-4D41-4D76-933D-1D1B024EB9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όμοι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906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άσπαση νετρ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 διατήρηση του φορτίου επιβάλλει ένα ιδεατό σωματίδι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irtual particle)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ε αρνητικό φορτίο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28083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005360"/>
            <a:ext cx="79218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σθενείς αλλ/σεις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μικρή εμβέλεια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μεγάλ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αραβίαση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πολύ βαρύ ενδιάμεσο σωματίδ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οσπάθειες για αντίστοιχη θεωρία πεδίου απέτυχ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λά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6B8-750B-4C29-B746-2C6BED5AF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η θεωρί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show(1961), Salam(1968), Weinberg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«ηλεκτρασθενής θεωρί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υμμετρία ασθενούς δύναμ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πλέτε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rk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και λεπτονί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(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2) (φορτίο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(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νοποίηση «συμμετριώ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βάντα πεδ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όλα χωρίς μάζ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ntaneous symmetry br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τα τρία  πρώτα με μάζ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843280" cy="21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C35-F041-4B17-8562-E6F088C93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"/>
                            </p:stCondLst>
                            <p:childTnLst>
                              <p:par>
                                <p:cTn id="2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799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υδέτερα ρεύματα – σκέδαση νετρίν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ERN, Hasert(1973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Η θεωρητική πρόβλεψη για τις μάζ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38.5/sin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iano &amp; Parsa (1982):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.215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Ά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83.0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0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93.8</a:t>
            </a:r>
            <a:r>
              <a:rPr b="0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90 φορές μάζα πρωτον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ιάρκεια ζωής 10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omic Sans MS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1971360" cy="14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34-2E41-42F7-B188-1FBF31478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παραγωγή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608360" cy="328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024360" cy="241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2C7-59D2-412C-A26A-FC16DCD9D6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διάσπαση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26320" cy="39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9D-3FDB-4AE4-8331-23B92FD156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17:20:16Z</dcterms:created>
  <dc:creator>Athena</dc:creator>
  <dc:description/>
  <dc:language>en-US</dc:language>
  <cp:lastModifiedBy>Athena</cp:lastModifiedBy>
  <dcterms:modified xsi:type="dcterms:W3CDTF">2007-07-17T07:24:00Z</dcterms:modified>
  <cp:revision>255</cp:revision>
  <dc:subject/>
  <dc:title>Ανακάλυψη ενδιάμεσων μποζονίων W και Z</dc:title>
</cp:coreProperties>
</file>