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20.png" ContentType="image/png"/>
  <Override PartName="/ppt/media/image18.wmf" ContentType="image/x-wmf"/>
  <Override PartName="/ppt/media/image24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4527-E038-4E7C-ABAB-CFA06B43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9451-41A5-49AD-8777-54D8E05F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0D59-0447-4CBA-9E6C-C2807647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C421-1BEE-4A7B-8D63-71885862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F2B-58BD-478B-B95D-AE5731C5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EBD8-1B99-419A-BAE5-7D28FA5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BC01-1C23-4700-84D5-4302AD81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3EC2-2E15-47A7-A406-2BA32EE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1B85-56BF-494C-B9D5-5AB6BAA0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DAC-6598-4133-B264-C922734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00BA-D734-4CA4-82BF-3B5EE06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EFEF-60E5-45AB-A949-D1D2357B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FC06-60A7-46E2-B1F8-C726E84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4AA4-CDF0-4CC6-BA9E-ECD09BF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CEA-3D02-4047-BCB7-2386D53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36D-8963-4E22-A9F9-C6128D76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8B4F-93E4-4967-949F-30369DD5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CBF5-26D2-447D-A3D5-A25E363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F3FC-8DE4-442C-8D34-4E02CA45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0AE4-AFA1-453A-B472-D2FA8401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7445-0FBD-4A49-9CDD-65EB6BEF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FAB5-1BE3-45B7-A90C-7588A70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9E0B-D629-4D36-82A6-903525C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FC07-0DCB-4ECF-9399-98AF929B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3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6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6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3698-AD82-4B87-8E61-55D0047F814E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62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3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6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6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1E32-2834-44FE-A99C-FD280DE40DD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ssgeneral.org/cancer/about/providers/radiation/proton/principles.asp" TargetMode="External"/><Relationship Id="rId2" Type="http://schemas.openxmlformats.org/officeDocument/2006/relationships/hyperlink" Target="http://www.proton-therapy.org/" TargetMode="External"/><Relationship Id="rId3" Type="http://schemas.openxmlformats.org/officeDocument/2006/relationships/hyperlink" Target="http://www.protons.com/proton-therapy/proton-technology.html" TargetMode="External"/><Relationship Id="rId4" Type="http://schemas.openxmlformats.org/officeDocument/2006/relationships/hyperlink" Target="http://www.neutrontherapy.niu.edu/neutrontherapy/therapy/index.shtml" TargetMode="External"/><Relationship Id="rId5" Type="http://schemas.openxmlformats.org/officeDocument/2006/relationships/hyperlink" Target="http://www.brookhaventech.com/pdf/ita.pdf" TargetMode="External"/><Relationship Id="rId6" Type="http://schemas.openxmlformats.org/officeDocument/2006/relationships/hyperlink" Target="http://www.phys.au.dk/~bassler/work.shtml?Pbar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dvanced-cancer-therapy.org/pdf/FAQS_v1.pd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62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Ακτινοθεραπεία Αδρονίων και Αντιπρωτονί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742840" y="3789000"/>
            <a:ext cx="61498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Εθνικό Μετσόβιο Πολυτεχνεί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χολή Εφαρμοσμένων Μαθηματικών και Φυσικών Επιστημ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Comic Sans MS"/>
              </a:rPr>
              <a:t>Μάθημα: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Σεμινάριο Φυσικ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1441440" cy="1389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195640" y="1916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Κοτρότσου Χ.Αικατερί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10ο εξάμηνο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52720" y="60930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πιβλέπων: Γαζής 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Ακτινοθεραπεία Νετρονί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on Neutron Caprture Therapy (BNCT)             19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84720" y="184464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2492280"/>
            <a:ext cx="45352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ΠΛΕΟΝΕΚΤΗ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Η αποδοτικότητα δεν εξαρτά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ό το στάδιο του καρκίν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. Απαιτείται το 1/3 της δό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. Η καταστροφή είναι μη αναστρέψιμ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65120" y="2492280"/>
            <a:ext cx="44179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ΕΙΟΝΕΚΤΗ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υσκολία στην καθοδήγ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ης δέσμ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. Δυσκολία στον καθορισμ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ης έντ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. Πολυπλοκ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4. Μεγάλο κόσ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Ακτινοθεραπεία αντιπρωτονί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ι είναι το </a:t>
            </a:r>
            <a:r>
              <a:rPr b="1" lang="el-GR" sz="2400" spc="-1" strike="noStrike">
                <a:solidFill>
                  <a:srgbClr val="cc00cc"/>
                </a:solidFill>
                <a:latin typeface="Arial"/>
              </a:rPr>
              <a:t>αντιπρωτόνιο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ντισωματίδιο του πρωτον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ορτίο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ταθερό σωματίδ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1520" y="3741840"/>
            <a:ext cx="62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cc00cc"/>
                </a:solidFill>
                <a:latin typeface="Arial"/>
              </a:rPr>
              <a:t>Συμπεριφορά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αντιπρωτονίου μέσα στην ύλ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εριφέρεται όπως το πρωτόν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Ιονισμός ατόμων του υλικ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   →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ξαϋλώνεται με πρωτόνιο ή νετρόν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Τι είναι η εξαϋλωσ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2400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ξαϋλωση με πρωτόνιο ή νετρόνιο του πυρήνα (1,8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αραγωγή περίπου 3 π-μεσονίων (+/-) και 1,5 π(0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αραγωγή ακτίνων γάμ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ερισσότερη ενέργεια μεταφέρεται από πιόνια και ακτίνες 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νέργεια ανακλώμενου πυρήνα ~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 rot="5400000">
            <a:off x="2577240" y="-553320"/>
            <a:ext cx="3772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Θεωρητικές Προβλέψεις για την θεραπεία με αντιπρωτόν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1" lang="el-GR" sz="2000" spc="-1" strike="noStrike">
                <a:solidFill>
                  <a:srgbClr val="cc00cc"/>
                </a:solidFill>
                <a:latin typeface="Arial"/>
              </a:rPr>
              <a:t>αντιπρωτόνια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μεταφέρουν μεγαλύτερο ποσό ενέργειας στον καρκινικό όγκο σε σύγκριση με τα πρωτόνι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1" lang="el-GR" sz="2000" spc="-1" strike="noStrike">
                <a:solidFill>
                  <a:srgbClr val="cc00cc"/>
                </a:solidFill>
                <a:latin typeface="Arial"/>
              </a:rPr>
              <a:t>αντιπρωτόνια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μας δίνουν τη δυνατότητα ταυτόχρονης απεικόνισης μέσω των ακτίνων γάμμ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α προϊόντα της </a:t>
            </a:r>
            <a:r>
              <a:rPr b="1" lang="el-GR" sz="2000" spc="-1" strike="noStrike">
                <a:solidFill>
                  <a:srgbClr val="cc00cc"/>
                </a:solidFill>
                <a:latin typeface="Arial"/>
              </a:rPr>
              <a:t>εξαύλωσης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δεν επηρεάζουν τους ιστούς εκτος του καρκινικού όγκ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Σύγκριση αντιπρωτονίων-πρωτονί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σάρωση000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040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Από πού παίρνουμε τα αντιπρωτόνια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316872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651640" y="2205000"/>
          <a:ext cx="216036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205000"/>
                    <a:ext cx="21603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4782960" y="3357720"/>
            <a:ext cx="365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ιταχυνόμενα πρωτόν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νέργεια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τόχος υψηλού ατομικο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ριθμού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Παραγωγή Αντιπρωτονί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σάρωση000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11800" y="2924280"/>
            <a:ext cx="3637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Ερευνητικά Κέντ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200e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i-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Ακτινοθεραπεία βαρέων ιόν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All heavy particles are hadrons, some just more than others</a:t>
            </a:r>
            <a:r>
              <a:rPr b="0" i="1" lang="el-GR" sz="2800" spc="-1" strike="noStrike">
                <a:solidFill>
                  <a:srgbClr val="000000"/>
                </a:solidFill>
                <a:latin typeface="Arial Narrow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4741560" cy="39769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24000" y="3357720"/>
            <a:ext cx="280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ίδραση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ater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το εύρο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ης δέσμ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Σύγκριση πρωτονίων-ιόντων άνθρακ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c8081a"/>
                </a:solidFill>
                <a:uFillTx/>
                <a:latin typeface="Arial"/>
              </a:rPr>
              <a:t>ΠΛΕΟΝΕΚΤΗ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α ιόντα άνθρακα έχουν μεγάλη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RBE (Relative Biological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ικρή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ateral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ικρότε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l-GR" sz="2000" spc="-1" strike="noStrike">
                <a:solidFill>
                  <a:srgbClr val="cc00cc"/>
                </a:solidFill>
                <a:latin typeface="Arial"/>
              </a:rPr>
              <a:t>Διασκεδασμό (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Stragg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00cc"/>
                </a:solidFill>
                <a:latin typeface="Arial"/>
              </a:rPr>
              <a:t>Παραγωγή ιόντων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(10)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(11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που συμβάλλουν ακόμη περισσότερο στην κορυφή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g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c8081a"/>
                </a:solidFill>
                <a:uFillTx/>
                <a:latin typeface="Arial"/>
              </a:rPr>
              <a:t>ΜΕΙΟΝΕΚΤΗ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αιτείται μεγαλύτερη ενέργεια για να φτάσει η δέσμη στο ίδιο βάθ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: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1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16cm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ερ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: 3000MeV →16cm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ερ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υσκολότερος σχεδιασμός πηγών ιόντ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Σύγκριση πρωτονίων-ιόντων άνθρακ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Τι είναι η ακτινοθεραπεί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Χρησιμοποιείται για την αντιμετώπιση του καρκίν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195640" y="1700280"/>
            <a:ext cx="107928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4360" y="299736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είωση του μεγέθους του καρκινικού όγκ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8360" y="1700280"/>
            <a:ext cx="108108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24760" y="2997360"/>
            <a:ext cx="395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ακούφιση από τους πόνου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ου προκαλεί ο καρκίνος κ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οι μεταστάσεις τ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1320" y="4554360"/>
            <a:ext cx="373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Η ακτινοθεραπεία σήμερ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κτίνες 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κτίνες γάμ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έσμη ηλεκτρονί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αδιενεργές εμφυτεύ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Σύνοψ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560240"/>
            <a:ext cx="8229600" cy="47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df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χρόνια μετά την εισήγηση το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 Wilson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για τα </a:t>
            </a:r>
            <a:r>
              <a:rPr b="1" lang="el-GR" sz="2000" spc="-1" strike="noStrike" u="sng">
                <a:solidFill>
                  <a:srgbClr val="0fdf05"/>
                </a:solidFill>
                <a:uFillTx/>
                <a:latin typeface="Arial"/>
              </a:rPr>
              <a:t>πρωτόνια</a:t>
            </a:r>
            <a:r>
              <a:rPr b="1" lang="el-GR" sz="2000" spc="-1" strike="noStrike">
                <a:solidFill>
                  <a:srgbClr val="0fdf05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έντρα θεραπείας με τη χρήση πρωτονίων κατασκευάζονται σε όλο τον κόσμο, ενώ ταυτόχρονα τα αποτελέσματα των θεραπειών αξιολογούνται από την ερευνητική κοινότητ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08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Η ακτινοθεραπεία με </a:t>
            </a:r>
            <a:r>
              <a:rPr b="1" lang="el-GR" sz="2000" spc="-1" strike="noStrike" u="sng">
                <a:solidFill>
                  <a:srgbClr val="c8081a"/>
                </a:solidFill>
                <a:uFillTx/>
                <a:latin typeface="Arial"/>
              </a:rPr>
              <a:t>αντιπρωτόνια</a:t>
            </a:r>
            <a:r>
              <a:rPr b="1" lang="el-GR" sz="2000" spc="-1" strike="noStrike">
                <a:solidFill>
                  <a:srgbClr val="c8081a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όλις έχει ξεκινήσει και τα αποτελέσματα δείχνουν ότι οι θεωρητικές προβλέψεις επιβεβαιώνονται. Ο επιταχυντής σωματιδίων το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N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έχει ανοίξει νέους ορίζοντες στην έρευ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4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1" lang="el-GR" sz="2000" spc="-1" strike="noStrike" u="sng">
                <a:solidFill>
                  <a:srgbClr val="33479d"/>
                </a:solidFill>
                <a:uFillTx/>
                <a:latin typeface="Arial"/>
              </a:rPr>
              <a:t>ιόντα άνθρακα</a:t>
            </a:r>
            <a:r>
              <a:rPr b="1" lang="el-GR" sz="2000" spc="-1" strike="noStrike">
                <a:solidFill>
                  <a:srgbClr val="33479d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έχουν δείξει πως είναι καλύτερα από τα πρωτόνια, ιδιαίτερα για όγκους που βρίσκονται κοντά σε ζωτικά όργανα. Με μόνο 4000 ασθενείς η έρευνα συνεχίζετα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Βιβλιογραφ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οντίζουσες Ακτινοβολίες, Εφαρμογές στην Βιολογία και την Ιατρική, Ε.Γαζή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Παπασωτηρ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hysics, Principles and Applications, J.Lilley, Wi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1"/>
              </a:rPr>
              <a:t>www.massgeneral.org/cancer/about/providers/radiation/proton/principl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2"/>
              </a:rPr>
              <a:t>www.proton-therap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3"/>
              </a:rPr>
              <a:t>www.protons.com/proton-therapy/proton-technolog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floridaproton.org/cancer-treatment/proton-therapy-video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Application of a proton therapy accelerator, E.Cole, Fermi National Accelerator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.mit.edu/nrl/www/bnct/info/description/descrip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4"/>
              </a:rPr>
              <a:t>www.neutrontherapy.niu.edu/neutrontherapy/therapy/index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5"/>
              </a:rPr>
              <a:t>www.brookhaventech.com/pdf/ita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6"/>
              </a:rPr>
              <a:t>www.phys.au.dk/~bassler/work.shtml?P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Βιβλιογραφ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200e4"/>
                </a:solidFill>
                <a:uFillTx/>
                <a:latin typeface="Arial"/>
                <a:hlinkClick r:id="rId1"/>
              </a:rPr>
              <a:t>www.advanced-cancer-therapy.org/pdf/FAQS_v1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sciencedirec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production and use of antiprotons, G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protons could help fight against cancer, CERN COU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accelerators take up the fight against cancer, CERN COU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rvey of hadron thrapy accelerator technologies, S. Peggs,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s of heavy ion radiotherapy, J. Bevelacq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Biomedical Applications of Antiproton Beams: Focused Radiation Transfer, T.E. Kalogeropoulos, L. G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7200e4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O O G L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Παραδοσιακές Ακτινοβολί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Οι ακτινοβολίες που χρησιμοποιούνται είναι ενέργειας ~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-1.5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ειονέκτημα είναι ο τρόπος με τον οποίο αφήνουν την ενέργειά τους μέσα στους ιστούς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Bragg Peak Graphs"/>
          <p:cNvPicPr/>
          <p:nvPr/>
        </p:nvPicPr>
        <p:blipFill>
          <a:blip r:embed="rId3">
            <a:lum contrast="-6000"/>
          </a:blip>
          <a:srcRect l="48197" t="13001" r="0" b="695"/>
          <a:stretch/>
        </p:blipFill>
        <p:spPr>
          <a:xfrm>
            <a:off x="4572000" y="1413000"/>
            <a:ext cx="4330800" cy="4176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219640" y="2924280"/>
            <a:ext cx="1297080" cy="1009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08720" y="4149720"/>
            <a:ext cx="1224000" cy="86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Καμπύλη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Bra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χέσ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-Bl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324000" y="2205000"/>
          <a:ext cx="39607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205000"/>
                    <a:ext cx="3960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2195640" y="3429000"/>
            <a:ext cx="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042920" y="4508640"/>
          <a:ext cx="1944720" cy="7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4508640"/>
                    <a:ext cx="194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0" name="" descr="Image:Bragg Curve for Alphas in Air.png"/>
          <p:cNvPicPr/>
          <p:nvPr/>
        </p:nvPicPr>
        <p:blipFill>
          <a:blip r:embed="rId6"/>
          <a:stretch/>
        </p:blipFill>
        <p:spPr>
          <a:xfrm>
            <a:off x="4246560" y="1557360"/>
            <a:ext cx="489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Ακτινοθεραπεία με πρωτόν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ert Wilson (Harvard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1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i="1" lang="el-GR" sz="2800" spc="-1" strike="noStrike">
                <a:solidFill>
                  <a:srgbClr val="000000"/>
                </a:solidFill>
                <a:latin typeface="Arial Narrow"/>
                <a:ea typeface="Arial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I do not know why I did not stop. I suppose the first reason w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curiosity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. … because one could hurt people with protons, one could probably help them too</a:t>
            </a:r>
            <a:r>
              <a:rPr b="0" i="1" lang="el-GR" sz="2800" spc="-1" strike="noStrike">
                <a:solidFill>
                  <a:srgbClr val="000000"/>
                </a:solidFill>
                <a:latin typeface="Arial Narrow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Θεραπεία σχεδιασμένη ειδικά για τον κάθε ασθεν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Μεγιστοποιήση δόσης στον καρκινικό όγκ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Ελαχιστοποίηση δόσης στους υγιείς ιστού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Ακτινοθεραπεία με πρωτόν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780000" cy="34560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456000" cy="24796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457440" cy="2592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843280" y="630864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1080" y="141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Φωτόν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16360" y="170028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45080" y="602136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ωτόν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0" fill="hold"/>
                                        <p:tgtEl>
                                          <p:spTgt spid="5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omic Sans MS"/>
              </a:rPr>
              <a:t>Παραγωγή Πρωτονίων και Εφαρμογ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Χαρακτηριστικά Δέσμης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: Ενέργεια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→ 25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Χρόνος → 2 λεπτ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αραγωγή Πρωτονίων: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 Αέριο υδρογόν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Επιταχυντές Πρωτονίων: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1. Γραμμικός Επιταχυντής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Κύκλοτρο - Σύνγχροτ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179280" y="1557360"/>
            <a:ext cx="5029200" cy="35431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4067280" y="2924280"/>
            <a:ext cx="4914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39136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Παράμετροι Δέσμ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ssive Scattering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θορισμός σχήματος δέσμ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cil Beam Scatt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άρωση του καρκινικού όγκου και ηλεκτρονικό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θορισμός δό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4249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5:04:33Z</dcterms:created>
  <dc:creator>GK</dc:creator>
  <dc:description/>
  <dc:language>en-US</dc:language>
  <cp:lastModifiedBy>GK</cp:lastModifiedBy>
  <dcterms:modified xsi:type="dcterms:W3CDTF">2008-05-11T18:46:28Z</dcterms:modified>
  <cp:revision>48</cp:revision>
  <dc:subject/>
  <dc:title>Ακτινοθεραπεία Αδρονίων και Αντιπρωτονίων</dc:title>
</cp:coreProperties>
</file>