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449-FAF5-435A-A665-5CB00500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C70-390D-40F8-B089-429EDE7DB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E954-706F-4A14-81D3-39287D41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D1D2-13D4-48C7-8A0A-85D31B89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295-86D3-49D3-8BA6-B1C05A9B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1FD1-4A8E-474E-AFB6-D552C62E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BA3-44B5-4F12-8711-C6132366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888-178A-4C54-AE54-0B889A49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FE3A-C3E8-4497-AF1B-2ACD1598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047-EC48-4CB6-93F8-62FF52D4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93CD-B303-4EB5-A55F-A2D3193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E20-A6D1-4402-98D2-28352108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368C-4894-41A3-BE4B-48179C27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33720" y="2538360"/>
            <a:ext cx="2504880" cy="287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00400" y="1395360"/>
            <a:ext cx="152280" cy="1066680"/>
          </a:xfrm>
          <a:prstGeom prst="downArrow">
            <a:avLst>
              <a:gd name="adj1" fmla="val 50000"/>
              <a:gd name="adj2" fmla="val 175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78160" y="20048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4680" y="60948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ΠΑΡΑΒΙΑΣΗ ΤΗΣ ΣΥΜΜΕΤΡΙΑ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5791320"/>
            <a:ext cx="487692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Οι εξισώσεις έχουν κυλινδρ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συμμετρία. Όταν όμως η δύναμ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ξεπεράσει μια κρίσιμη τιμή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η λύση των εξισώσεων, δηλαδ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το σχήμα που παίρνει η ράβδο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δεν έχει πλέον αυτή τη συμμετρί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3:30:51Z</dcterms:created>
  <dc:creator>NDT</dc:creator>
  <dc:description/>
  <dc:language>en-US</dc:language>
  <cp:lastModifiedBy>NDT</cp:lastModifiedBy>
  <dcterms:modified xsi:type="dcterms:W3CDTF">2003-02-25T13:38:35Z</dcterms:modified>
  <cp:revision>3</cp:revision>
  <dc:subject/>
  <dc:title>No Slide Title</dc:title>
</cp:coreProperties>
</file>