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AEAA-0D0D-4DDE-BDA9-186381B0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321F-D0C2-44BD-9F6B-4F02592D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56A-D18D-4E4E-8A0E-49C005891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A19E-DB23-4C1E-8947-D455B781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BA4-A787-4F69-8BF7-3956DACE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8DDD-B4EF-4CCE-B0E2-083C520E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993-9351-4982-B122-586108F5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4353-FC1D-4927-A3DC-1943C39B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E9C-845D-4519-962F-652F8C9D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A54D-0566-483A-94D7-6499FF1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23D-B0EB-4F22-AD96-231300C6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CD4-2E21-439F-9503-EC064766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9ED3-4C93-4691-81FE-222F62121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8120" y="304920"/>
          <a:ext cx="18288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04920"/>
                    <a:ext cx="18288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918000" y="30492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ΟΜΑΔ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120" y="1143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60880" y="114300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8200" y="11430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διαστα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437920" y="91440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914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914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05120" y="1600200"/>
          <a:ext cx="838080" cy="31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16002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352680" y="1571760"/>
          <a:ext cx="838440" cy="31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2680" y="1571760"/>
                    <a:ext cx="83844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762120" y="2057400"/>
          <a:ext cx="1752480" cy="120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057400"/>
                    <a:ext cx="175248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003480" y="2362320"/>
          <a:ext cx="44784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03480" y="2362320"/>
                    <a:ext cx="447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3463200" y="23623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μιγαδικο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3560" y="320040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8 (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2) ανεξάρτητοι παράμετρ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365640" y="3768840"/>
          <a:ext cx="368280" cy="29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65640" y="3768840"/>
                    <a:ext cx="368280" cy="2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796920" y="35812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σχέ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7800" y="3616200"/>
          <a:ext cx="83808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36162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4131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352680" y="4160880"/>
          <a:ext cx="368280" cy="2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52680" y="4160880"/>
                    <a:ext cx="36828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871800" y="3962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σχέ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4073400"/>
          <a:ext cx="838080" cy="317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57800" y="4073400"/>
                    <a:ext cx="8380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62120" y="4606920"/>
            <a:ext cx="533160" cy="228600"/>
          </a:xfrm>
          <a:prstGeom prst="rightArrow">
            <a:avLst>
              <a:gd name="adj1" fmla="val 50000"/>
              <a:gd name="adj2" fmla="val 583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0080" y="4419720"/>
            <a:ext cx="496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ανεξάρτητοι παράμετροι, δη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πίνακες αναπαράγουν όλη την ομάδ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9280" y="5724360"/>
            <a:ext cx="19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πίνακες τ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5800680"/>
          <a:ext cx="3886200" cy="695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57200" y="5800680"/>
                    <a:ext cx="38862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514600" y="6527880"/>
          <a:ext cx="1447920" cy="863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14600" y="6527880"/>
                    <a:ext cx="1447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37120" y="52578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Α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2) EΧΕI 3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ΕΝΝΗΤΟΡΕ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746748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6480" y="7772400"/>
            <a:ext cx="58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Α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 EΧΕI 8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ΓΕΝΝΗΤΟΡΕ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3:38:21Z</dcterms:created>
  <dc:creator>NDT</dc:creator>
  <dc:description/>
  <dc:language>en-US</dc:language>
  <cp:lastModifiedBy>NDT</cp:lastModifiedBy>
  <dcterms:modified xsi:type="dcterms:W3CDTF">2003-03-14T14:07:45Z</dcterms:modified>
  <cp:revision>1</cp:revision>
  <dc:subject/>
  <dc:title>No Slide Title</dc:title>
</cp:coreProperties>
</file>