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A58C-4F4C-4202-9692-D9D56B32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1580-60B3-405A-AFBB-DBEA8F80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5CB-2DFD-4504-A814-5419311B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EF2-CFE7-4322-A8BE-672E1E77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39E-A6D9-44EA-9651-93644249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914-A90D-4B67-8C8C-4C54DA22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F20-A9BB-4C91-AC17-1BF6D5FB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800-D870-475E-AF87-BBDD8C9F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C20-8561-4907-B408-2DC7015D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CED-E1D1-4256-A653-83DBFB04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B0A4-EBAD-4F40-9555-445F98F1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C75-41FE-4E14-BEA7-597F10DB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0850-7EA6-4DC9-87A6-9CF254F14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lpart01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838080" y="838080"/>
            <a:ext cx="7772400" cy="5272200"/>
            <a:chOff x="838080" y="838080"/>
            <a:chExt cx="7772400" cy="5272200"/>
          </a:xfrm>
        </p:grpSpPr>
        <p:pic>
          <p:nvPicPr>
            <p:cNvPr id="43" name="elpart02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7772400" cy="52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117320" y="2133720"/>
              <a:ext cx="101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ffcc00"/>
                  </a:solidFill>
                  <a:latin typeface="Arial"/>
                </a:rPr>
                <a:t>ΗΛΕΚΤΡΟΝΙΟ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838080" y="838080"/>
            <a:ext cx="7772400" cy="5272200"/>
            <a:chOff x="838080" y="838080"/>
            <a:chExt cx="7772400" cy="5272200"/>
          </a:xfrm>
        </p:grpSpPr>
        <p:pic>
          <p:nvPicPr>
            <p:cNvPr id="46" name="elpart03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7772400" cy="52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101480" y="2192400"/>
              <a:ext cx="101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ffcc00"/>
                  </a:solidFill>
                  <a:latin typeface="Arial"/>
                </a:rPr>
                <a:t>ΗΛΕΚΤΡΟΝΙΟ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838080"/>
            <a:ext cx="7772400" cy="5270760"/>
            <a:chOff x="838080" y="838080"/>
            <a:chExt cx="7772400" cy="5270760"/>
          </a:xfrm>
        </p:grpSpPr>
        <p:pic>
          <p:nvPicPr>
            <p:cNvPr id="49" name="elpart1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7772400" cy="527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4041000" y="1963800"/>
              <a:ext cx="3982680" cy="416160"/>
              <a:chOff x="4041000" y="1963800"/>
              <a:chExt cx="3982680" cy="416160"/>
            </a:xfrm>
          </p:grpSpPr>
          <p:sp>
            <p:nvSpPr>
              <p:cNvPr id="51" name=""/>
              <p:cNvSpPr/>
              <p:nvPr/>
            </p:nvSpPr>
            <p:spPr>
              <a:xfrm>
                <a:off x="4041000" y="2133720"/>
                <a:ext cx="1017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000" spc="-1" strike="noStrike">
                    <a:solidFill>
                      <a:srgbClr val="ffcc00"/>
                    </a:solidFill>
                    <a:latin typeface="Arial"/>
                  </a:rPr>
                  <a:t>ΗΛΕΚΤΡΟΝΙΟ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301880" y="1963800"/>
                <a:ext cx="72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cc00"/>
                    </a:solidFill>
                    <a:latin typeface="Arial"/>
                  </a:rPr>
                  <a:t>ΚΟΥΑΡΚ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elpart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lpart3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part4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lpart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4T21:45:25Z</dcterms:created>
  <dc:creator>n.d. tracas</dc:creator>
  <dc:description/>
  <dc:language>en-US</dc:language>
  <cp:lastModifiedBy>n.d. tracas</cp:lastModifiedBy>
  <dcterms:modified xsi:type="dcterms:W3CDTF">1999-12-05T21:16:54Z</dcterms:modified>
  <cp:revision>4</cp:revision>
  <dc:subject/>
  <dc:title>No Slide Title</dc:title>
</cp:coreProperties>
</file>