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983-01B5-4EB9-B008-C626B396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A76-4E90-488D-8D95-01F606C3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7BD-D6D2-409E-8B6A-EFBBB8E2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8D72-03B7-439D-9A28-71A1E1FB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6993-A3B9-4016-BF6F-CFA0E9F7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5C0-8777-4490-817E-9EC571F8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DE0-8D08-44CF-B480-B067CE6F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438-2771-4885-8F1F-451CA2DB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57F-54FD-4069-9B47-C5E29839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25D-DCFD-47DE-BEEB-DAF6249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F51-DC1F-42F0-B398-755A6231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6D5-BD4D-4BC5-8608-069D7A8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4BAB-3CCE-4851-B109-9D5DE55E9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egamma.swf" TargetMode="External"/><Relationship Id="rId2" Type="http://schemas.openxmlformats.org/officeDocument/2006/relationships/hyperlink" Target="file:///qcd1.swf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ter1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nter2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nter3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nter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9040" y="838080"/>
            <a:ext cx="419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ΑΝΤΑΛΛΑΓΗ ΦΩΤΟΝΙ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ΑΝΤΑΛΛΑΓΗ ΓΚΛΟΥΟΝΙ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52:13Z</dcterms:created>
  <dc:creator>n.d. tracas</dc:creator>
  <dc:description/>
  <dc:language>en-US</dc:language>
  <cp:lastModifiedBy>NDT</cp:lastModifiedBy>
  <dcterms:modified xsi:type="dcterms:W3CDTF">2003-02-25T14:26:35Z</dcterms:modified>
  <cp:revision>7</cp:revision>
  <dc:subject/>
  <dc:title>No Slide Title</dc:title>
</cp:coreProperties>
</file>