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0FB-D98B-480C-81B7-81FCB918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036-94BA-4F11-B8C1-D928B675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60B-5B74-4ACA-BCCB-58C3A7A0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F4F-B1D6-4277-9753-00ED3709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93E-0545-4322-B464-16A4F13DD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E21D-EE92-4E60-92F1-A6F91FB0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DC5-D9E5-4676-8C9F-8EF30D2F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6983-830E-411F-9F5C-BCFBE090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D04-F2D9-4359-AD1E-BA147AF3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C6D-8ED3-4091-A8EF-9DCBEBC6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083F-9C33-4A63-99D3-CBF52003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F9A-68AA-418B-8530-D5B85071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8DA4-E2AD-4218-BB56-8689F9547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58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" y="30492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4320" y="30492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52480" y="838080"/>
            <a:ext cx="2982960" cy="25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Times New Roman"/>
              </a:rPr>
              <a:t>Σύγχρονες</a:t>
            </a:r>
            <a:endParaRPr b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Times New Roman"/>
              </a:rPr>
              <a:t>Θεωρίες</a:t>
            </a:r>
            <a:endParaRPr b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Times New Roman"/>
              </a:rPr>
              <a:t>Στοιχειωδών</a:t>
            </a:r>
            <a:endParaRPr b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Times New Roman"/>
              </a:rPr>
              <a:t>Σωματιδίων</a:t>
            </a:r>
            <a:endParaRPr b="1" lang="en-US" sz="4400" spc="1" strike="noStrike">
              <a:ln w="0">
                <a:noFill/>
              </a:ln>
              <a:solidFill>
                <a:srgbClr val="ff33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7560" y="4005360"/>
            <a:ext cx="5019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Τα Στοιχειώδη Σωματίδ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Οι Αλληλεπιδράσεις τ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Θεωρίες Βαθμίδ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Ηλεκτρομαγνητική Αλληλεπί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Ασθενής Αλληλεπί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Ισχυρή Αλληλεπί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Ενοποί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0000ff"/>
                </a:solidFill>
                <a:uFillTx/>
                <a:latin typeface="Times New Roman"/>
              </a:rPr>
              <a:t>Το Φαινόμενο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Hi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Το Καθιερωμένο Πρότυπ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Μεγαλοενοποί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Υπερσυμμετρ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Χορδές και Μεμβρά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lang="el-GR" sz="2400" spc="-1" strike="noStrike" u="sng">
                <a:solidFill>
                  <a:srgbClr val="0000ff"/>
                </a:solidFill>
                <a:uFillTx/>
                <a:latin typeface="Times New Roman"/>
              </a:rPr>
              <a:t>Συμπαγοποί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6720" y="359568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Ν.Δ. Τράκας (ΕΜΠ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76520" y="685800"/>
            <a:ext cx="373356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ΜΕΓΑΛΟΕΝΟΠΟΙ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1447920"/>
            <a:ext cx="617220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Η προσπάθεια μείωσης των ελεύθερων παρ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έτρων οδηγεί σε θεωρίες βαθμίδας μ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εγαλύτερη συμμετρία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5), SO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2971800"/>
            <a:ext cx="61722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Ξεκινώντας από μια τέτοια ομάδα, με ενια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ένταση, οδηγούμαστε (με το φαινόμενο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ε μικρότερες ομάδες και τελικά στο Κ.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41972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Πώς ξεχωρίζουν οι εντάσει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4876920"/>
            <a:ext cx="6095880" cy="19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Η ένταση μιας αλληλεπί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δρασης εξαρτάται από τη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ενέργεια που τη μετράμ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θωράκιση θετική ή αρνη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τική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038480" y="4952880"/>
            <a:ext cx="2438640" cy="17258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7200" y="6934320"/>
            <a:ext cx="6095880" cy="19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ι εντάσεις του Κ.Π. ΔΕ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συναντώντα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πορούμε να μιλάμε γ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ενοποίηση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114800" y="7010280"/>
            <a:ext cx="2362320" cy="1765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981080" y="685800"/>
            <a:ext cx="2895840" cy="3808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ΥΠΕΡΣΥΜΜΕΤΡ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16002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251460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29200" y="33526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1447920"/>
            <a:ext cx="3810240" cy="2438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Είναι μια επιπλέον συμμε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τρία που συνδέει σωματίδ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με διαφορετικό σπι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Για κάθε σωματίδιο εισάγε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τον υπερσυμμετρικό σύντρο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φό το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4114800"/>
            <a:ext cx="6172200" cy="22096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Τά νέα σωματίδια αλλά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ζουν την ενεργειακή εξέ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λιξη των εντάσεω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2657520" cy="1924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80880" y="6553080"/>
            <a:ext cx="6248520" cy="1981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Δεν έχει παρατηρηθεί κανένα υπερσυμμετρικ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σωματίδιο. Η Υπερσυμμετρία είναι κρυμμέν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Τα υπερσυμμετρικά σωματίδια είναι βαριά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Αλά, δεν γνωρίζουμε τρόπο, αντίστοιχο το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higgs,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 για παραβίαση της υπερσυμμετρία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343400" y="1066680"/>
            <a:ext cx="542880" cy="906120"/>
            <a:chOff x="4343400" y="1066680"/>
            <a:chExt cx="542880" cy="906120"/>
          </a:xfrm>
        </p:grpSpPr>
        <p:sp>
          <p:nvSpPr>
            <p:cNvPr id="230" name=""/>
            <p:cNvSpPr/>
            <p:nvPr/>
          </p:nvSpPr>
          <p:spPr>
            <a:xfrm>
              <a:off x="4420800" y="106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4343400" y="1448280"/>
              <a:ext cx="542880" cy="52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2" name=""/>
          <p:cNvGrpSpPr/>
          <p:nvPr/>
        </p:nvGrpSpPr>
        <p:grpSpPr>
          <a:xfrm>
            <a:off x="5638680" y="914400"/>
            <a:ext cx="542880" cy="1058400"/>
            <a:chOff x="5638680" y="914400"/>
            <a:chExt cx="542880" cy="1058400"/>
          </a:xfrm>
        </p:grpSpPr>
        <p:sp>
          <p:nvSpPr>
            <p:cNvPr id="233" name=""/>
            <p:cNvSpPr/>
            <p:nvPr/>
          </p:nvSpPr>
          <p:spPr>
            <a:xfrm>
              <a:off x="5640120" y="1066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15000" y="914400"/>
              <a:ext cx="34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5638680" y="1448640"/>
              <a:ext cx="542880" cy="52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6" name=""/>
          <p:cNvGrpSpPr/>
          <p:nvPr/>
        </p:nvGrpSpPr>
        <p:grpSpPr>
          <a:xfrm>
            <a:off x="4343400" y="1981080"/>
            <a:ext cx="542880" cy="906120"/>
            <a:chOff x="4343400" y="1981080"/>
            <a:chExt cx="542880" cy="906120"/>
          </a:xfrm>
        </p:grpSpPr>
        <p:sp>
          <p:nvSpPr>
            <p:cNvPr id="237" name=""/>
            <p:cNvSpPr/>
            <p:nvPr/>
          </p:nvSpPr>
          <p:spPr>
            <a:xfrm>
              <a:off x="4421520" y="198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4343400" y="2362680"/>
              <a:ext cx="542880" cy="52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9" name=""/>
          <p:cNvGrpSpPr/>
          <p:nvPr/>
        </p:nvGrpSpPr>
        <p:grpSpPr>
          <a:xfrm>
            <a:off x="4343400" y="2895480"/>
            <a:ext cx="542880" cy="906120"/>
            <a:chOff x="4343400" y="2895480"/>
            <a:chExt cx="542880" cy="906120"/>
          </a:xfrm>
        </p:grpSpPr>
        <p:sp>
          <p:nvSpPr>
            <p:cNvPr id="240" name=""/>
            <p:cNvSpPr/>
            <p:nvPr/>
          </p:nvSpPr>
          <p:spPr>
            <a:xfrm>
              <a:off x="4497120" y="289548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</a:rPr>
                <a:t>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5"/>
            <a:stretch/>
          </p:blipFill>
          <p:spPr>
            <a:xfrm>
              <a:off x="4343400" y="3277080"/>
              <a:ext cx="542880" cy="52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5638680" y="1828800"/>
            <a:ext cx="542880" cy="1058040"/>
            <a:chOff x="5638680" y="1828800"/>
            <a:chExt cx="542880" cy="1058040"/>
          </a:xfrm>
        </p:grpSpPr>
        <p:sp>
          <p:nvSpPr>
            <p:cNvPr id="243" name=""/>
            <p:cNvSpPr/>
            <p:nvPr/>
          </p:nvSpPr>
          <p:spPr>
            <a:xfrm>
              <a:off x="5716800" y="182880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638680" y="1981440"/>
              <a:ext cx="542880" cy="905400"/>
              <a:chOff x="5638680" y="1981440"/>
              <a:chExt cx="542880" cy="905400"/>
            </a:xfrm>
          </p:grpSpPr>
          <p:sp>
            <p:nvSpPr>
              <p:cNvPr id="245" name=""/>
              <p:cNvSpPr/>
              <p:nvPr/>
            </p:nvSpPr>
            <p:spPr>
              <a:xfrm>
                <a:off x="5716800" y="1981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638680" y="2362680"/>
                <a:ext cx="542880" cy="52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"/>
          <p:cNvGrpSpPr/>
          <p:nvPr/>
        </p:nvGrpSpPr>
        <p:grpSpPr>
          <a:xfrm>
            <a:off x="5715000" y="2666880"/>
            <a:ext cx="542880" cy="1134720"/>
            <a:chOff x="5715000" y="2666880"/>
            <a:chExt cx="542880" cy="1134720"/>
          </a:xfrm>
        </p:grpSpPr>
        <p:grpSp>
          <p:nvGrpSpPr>
            <p:cNvPr id="248" name=""/>
            <p:cNvGrpSpPr/>
            <p:nvPr/>
          </p:nvGrpSpPr>
          <p:grpSpPr>
            <a:xfrm>
              <a:off x="5791320" y="2666880"/>
              <a:ext cx="342720" cy="612000"/>
              <a:chOff x="5791320" y="2666880"/>
              <a:chExt cx="342720" cy="612000"/>
            </a:xfrm>
          </p:grpSpPr>
          <p:sp>
            <p:nvSpPr>
              <p:cNvPr id="249" name=""/>
              <p:cNvSpPr/>
              <p:nvPr/>
            </p:nvSpPr>
            <p:spPr>
              <a:xfrm>
                <a:off x="5791320" y="2666880"/>
                <a:ext cx="34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792760" y="28191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γ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51" name="" descr=""/>
            <p:cNvPicPr/>
            <p:nvPr/>
          </p:nvPicPr>
          <p:blipFill>
            <a:blip r:embed="rId7"/>
            <a:stretch/>
          </p:blipFill>
          <p:spPr>
            <a:xfrm>
              <a:off x="5715000" y="3277080"/>
              <a:ext cx="542880" cy="524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295280" y="762120"/>
            <a:ext cx="434340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ΧΟΡΔΕΣ ΚΑΙ ΜΕΜΒΡΑΝ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1676520"/>
            <a:ext cx="5334120" cy="1295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Σωματίδια,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D=4=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βαντική Θεωρία Πεδίο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ρόβλημα με τη Βαρύτητ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57240" cy="57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838080" y="3352680"/>
            <a:ext cx="533412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Χορδές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Θεωρία Χορδώ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εριγράφει και τη Βαρύτητ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419120" cy="228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38080" y="5181480"/>
            <a:ext cx="5334120" cy="1752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εμβράνε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ς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ά κ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-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ιάστατες μεμβράνε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-bra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343400" y="5334120"/>
            <a:ext cx="1295280" cy="906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066680" y="7238880"/>
            <a:ext cx="495324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Η Θεωρία Χορδών περιέχει όχι μόν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χορδές, αλλά και σωματίδι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εμβράνες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895480" y="34290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124080" y="5486400"/>
            <a:ext cx="3085920" cy="1839600"/>
            <a:chOff x="3124080" y="5486400"/>
            <a:chExt cx="3085920" cy="18396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3124080" y="5486400"/>
              <a:ext cx="3085920" cy="18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4724280" y="6706800"/>
              <a:ext cx="1068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Καθιερωμέν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Πρότυπο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360" y="6859080"/>
              <a:ext cx="304920" cy="152280"/>
            </a:xfrm>
            <a:prstGeom prst="leftArrow">
              <a:avLst>
                <a:gd name="adj1" fmla="val 50000"/>
                <a:gd name="adj2" fmla="val 50059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68520" y="613296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Times New Roman"/>
                </a:rPr>
                <a:t>6 διαστάσει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886200" y="2590920"/>
            <a:ext cx="2514600" cy="1496880"/>
            <a:chOff x="3886200" y="2590920"/>
            <a:chExt cx="2514600" cy="1496880"/>
          </a:xfrm>
        </p:grpSpPr>
        <p:pic>
          <p:nvPicPr>
            <p:cNvPr id="273" name="" descr=""/>
            <p:cNvPicPr/>
            <p:nvPr/>
          </p:nvPicPr>
          <p:blipFill>
            <a:blip r:embed="rId2"/>
            <a:stretch/>
          </p:blipFill>
          <p:spPr>
            <a:xfrm>
              <a:off x="3886200" y="2590920"/>
              <a:ext cx="251460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 flipH="1">
              <a:off x="5433120" y="2729160"/>
              <a:ext cx="70200" cy="27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990720" y="2743200"/>
            <a:ext cx="1590480" cy="1371600"/>
            <a:chOff x="990720" y="2743200"/>
            <a:chExt cx="1590480" cy="137160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990720" y="2743200"/>
              <a:ext cx="15904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1737720" y="2932200"/>
              <a:ext cx="505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=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600200" y="762120"/>
            <a:ext cx="327672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ΣΥΜΠΑΓΟΠΟΙΗ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1600200"/>
            <a:ext cx="19810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Παλιά εικό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438280" y="2286000"/>
            <a:ext cx="2209680" cy="457200"/>
            <a:chOff x="2438280" y="2286000"/>
            <a:chExt cx="2209680" cy="457200"/>
          </a:xfrm>
        </p:grpSpPr>
        <p:sp>
          <p:nvSpPr>
            <p:cNvPr id="281" name=""/>
            <p:cNvSpPr/>
            <p:nvPr/>
          </p:nvSpPr>
          <p:spPr>
            <a:xfrm>
              <a:off x="2438280" y="2286000"/>
              <a:ext cx="2209680" cy="457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=10         D=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28640" y="25146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523880" y="4191120"/>
            <a:ext cx="419112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ι 6 από τις 10 διαστάσει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ΣΥΜΠΑΓΟΠΟΙΟΥΝΤΑ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5562720"/>
            <a:ext cx="19810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Νέα εικό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7467480"/>
            <a:ext cx="5715000" cy="1067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 κόσμος μας είναι μια τετραδιάστατη επι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φάνεια μέσα σ’ ένα δεκαδιάστατο συνεχέ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2880" y="774720"/>
            <a:ext cx="613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Και βέβαια, θα μπορούσε κάποιος να υποστηρίξει απλά ότ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τα τρανζ</a:t>
            </a: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ί</a:t>
            </a: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στορ ήταν δυνατόν να είχαν ανακαλυφθεί από άτο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μα που δεν εκπαιδεύτηκαν και δεν προσέφεραν στην κβαντο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μηχανική και την κβαντική θεωρία των στερεών. Αλλά αυτ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που συνέβη είναι ότι αυτοί που τ’ ανακάλυψαν είχαν προσφέ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ρει πολλά στην κβαντική θεωρί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5120" y="2984400"/>
            <a:ext cx="625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Θα μπορούσε κάποιος να αναρωτηθεί αν τα βασικά κυκλώμα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τα των ηλεκτρονικών υπολογιστών ήταν δυνατόν να έχουν α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νακαλυφθεί από τα άτομα που ήθελαν να κατασκευάσουν του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ηλεκτρονικούς υπολογιστές. Αλλά, αυτό που συνέβη ήταν ότ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ανακαλύφθηκαν από φυσικούς που μετρούσαν πυρηνικά σω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ματίδια γιατί ενδιαφερόντουσαν για πυρηνική φυσική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000" y="5210280"/>
            <a:ext cx="62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Μπορεί  κάποιος να ρωτήσει αν θα υπήρχε πυρηνική ενέργει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επειδή ο άνθρωπος ήθελε νέες πηγές ή αν η τάση για εύρεσ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νέων μορφών ενέργειας θα οδηγούσε στην ανακάλυψη του πυ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ρήνα. Ισως. Αλλά δεν συνέβη αυτ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6962760"/>
            <a:ext cx="623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Θα μπορούσε κάποιος να αναρωτηθεί αν η ηλεκτρονική βιο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imes New Roman"/>
              </a:rPr>
              <a:t>μηχανία θα μπορούσε να υπάρξει πριν ο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J.J. Thomson</a:t>
            </a: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 κα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H.A. Lorentz</a:t>
            </a: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 ανακαλύψουν το ηλεκτρόνιο. Και πάλι, αυτό δε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έγιν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760" y="-11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53352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4000" y="1522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54320" y="152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79440" y="838080"/>
            <a:ext cx="622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Κάποιος θα μπορούσε να αναρωτηθεί αν τα επαγωγικά πηνί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των μηχανών των αυτοκινήτων μπορούσαν να είχαν κατα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σκευαστεί από τις βιομηχανίες που ασχολούνται με τη συγκοι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νωνία και να είχαν βρεί και τους κανόνες της επαγωγής. Αλλ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αυτά τα ανακάλυψε ο </a:t>
            </a:r>
            <a:r>
              <a:rPr b="1" lang="fr-FR" sz="1800" spc="-1" strike="noStrike">
                <a:solidFill>
                  <a:srgbClr val="ff3300"/>
                </a:solidFill>
                <a:latin typeface="Times New Roman"/>
              </a:rPr>
              <a:t>Faraday</a:t>
            </a: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 πολύ πρι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7640" y="2725560"/>
            <a:ext cx="614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Ή ακόμα, σε μια προσπάθεια για καλύτερη επικοινωνία, θ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μπορούσε κάποιος να είχε ανακαλύψει τα ηλεκτρομαγνητικ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κύματα. Δεν βρέθηκαν με αυτόν τον τρόπο. Τα βρήκε ο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Her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ο οποίος εκθείασε την ομορφιά της φυσικής και βασίστηκ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στις θεωρητικές επεξεργασίες του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Maxwel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5480" y="46926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Φοβάμαι ότι δεν υπάρχει στον 20ο αιώνα, παράδειγμα καινο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3300"/>
                </a:solidFill>
                <a:latin typeface="Times New Roman"/>
              </a:rPr>
              <a:t>τομίας που δεν οφείλει την ύπαρξή της στη βασική έρευν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56880" y="5729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J. Casim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53352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4000" y="1522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4320" y="15228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300480" y="762120"/>
            <a:ext cx="183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838080"/>
            <a:ext cx="64008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ΚΑΘΕ ΘΕΩΡΙΑ ΠΟΥ ΠΡΟΣΠΑΘΕΙ Ν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ΠΕΡΙΓΡΑΨΕΙ ΤΗ ΦΥΣΗ ΠΡΕΠΕΙ ΝΑ ΕΙΝΑΙ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1600200"/>
            <a:ext cx="3636720" cy="88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ΘΕΩΡΙΑ ΒΑΘΜΙΔ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Gauge The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2590920"/>
            <a:ext cx="632448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υτόματη παρουσία του ΔΙΑΔΟΤΗ της αλλη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λεπίδρασης που περιγράφει η θεωρία βαθμίδ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657600"/>
            <a:ext cx="632448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 Διαδότης είναι υποχρεωτικά ΑΜΑΖ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και έχε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4648320"/>
            <a:ext cx="632448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Το μαθηματικό υπόβαθρο της Θεωρίας Βαθμί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δας περιγράφεται από τη θεωρία ΟΜΑΔ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5867280"/>
            <a:ext cx="571500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Ομάδα κατατάσσει τα σωματίδια σ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«πολλαπλότητε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7772400"/>
            <a:ext cx="5715000" cy="838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ι εξισώσεις παραμένουν αναλλοίωτε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ε μετασχηματισμούς της Ομάδ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6858000"/>
            <a:ext cx="571500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Ομάδα καθορίζει την πολλαπλότητα 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ιαδοτώ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151920" y="5715000"/>
            <a:ext cx="914400" cy="609480"/>
          </a:xfrm>
          <a:custGeom>
            <a:avLst/>
            <a:gdLst>
              <a:gd name="textAreaLeft" fmla="*/ 304920 w 914400"/>
              <a:gd name="textAreaRight" fmla="*/ 783360 w 9144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37440" y="6591240"/>
            <a:ext cx="1143000" cy="609480"/>
          </a:xfrm>
          <a:custGeom>
            <a:avLst/>
            <a:gdLst>
              <a:gd name="textAreaLeft" fmla="*/ 380880 w 1143000"/>
              <a:gd name="textAreaRight" fmla="*/ 979200 w 11430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37440" y="7581960"/>
            <a:ext cx="1143000" cy="609480"/>
          </a:xfrm>
          <a:custGeom>
            <a:avLst/>
            <a:gdLst>
              <a:gd name="textAreaLeft" fmla="*/ 380880 w 1143000"/>
              <a:gd name="textAreaRight" fmla="*/ 979200 w 114300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858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4000" y="30492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4320" y="30492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057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47920" y="838080"/>
            <a:ext cx="373356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ΛΕΚΤΡΟΜΑΓΝΗΤΙΚ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ΗΛΕΠΙ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981080" y="3429000"/>
            <a:ext cx="1371600" cy="1752480"/>
            <a:chOff x="1981080" y="3429000"/>
            <a:chExt cx="1371600" cy="1752480"/>
          </a:xfrm>
        </p:grpSpPr>
        <p:sp>
          <p:nvSpPr>
            <p:cNvPr id="66" name=""/>
            <p:cNvSpPr/>
            <p:nvPr/>
          </p:nvSpPr>
          <p:spPr>
            <a:xfrm>
              <a:off x="1981080" y="342900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2133360" y="3505320"/>
              <a:ext cx="1131840" cy="163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380880" y="3429000"/>
            <a:ext cx="1371600" cy="1752480"/>
            <a:chOff x="380880" y="3429000"/>
            <a:chExt cx="1371600" cy="1752480"/>
          </a:xfrm>
        </p:grpSpPr>
        <p:sp>
          <p:nvSpPr>
            <p:cNvPr id="69" name=""/>
            <p:cNvSpPr/>
            <p:nvPr/>
          </p:nvSpPr>
          <p:spPr>
            <a:xfrm>
              <a:off x="380880" y="342900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456840" y="3505320"/>
              <a:ext cx="120996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990720" y="1905120"/>
            <a:ext cx="4724280" cy="1218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Ασκείται μεταξύ των σωματιδίω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που έχουν ηλεκτρικό φορτί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, u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581280" y="3429000"/>
            <a:ext cx="1371600" cy="1752480"/>
            <a:chOff x="3581280" y="3429000"/>
            <a:chExt cx="1371600" cy="1752480"/>
          </a:xfrm>
        </p:grpSpPr>
        <p:sp>
          <p:nvSpPr>
            <p:cNvPr id="73" name=""/>
            <p:cNvSpPr/>
            <p:nvPr/>
          </p:nvSpPr>
          <p:spPr>
            <a:xfrm>
              <a:off x="3581280" y="342900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3657600" y="3504960"/>
              <a:ext cx="12096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5181480" y="3429000"/>
            <a:ext cx="1371600" cy="1752480"/>
            <a:chOff x="5181480" y="3429000"/>
            <a:chExt cx="1371600" cy="1752480"/>
          </a:xfrm>
        </p:grpSpPr>
        <p:sp>
          <p:nvSpPr>
            <p:cNvPr id="76" name=""/>
            <p:cNvSpPr/>
            <p:nvPr/>
          </p:nvSpPr>
          <p:spPr>
            <a:xfrm>
              <a:off x="5181480" y="342900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5257800" y="3505320"/>
              <a:ext cx="1238400" cy="163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914400" y="6477120"/>
            <a:ext cx="548640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Διαδότη: τετριμμέν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φωτόνιο (γ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5410080"/>
            <a:ext cx="3276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αθηματικό υπόβαθρ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μάδ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7543800"/>
            <a:ext cx="548640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Σωματιδίων: τετριμμέν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,d,e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858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4000" y="30492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4320" y="30492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905120" y="1752480"/>
            <a:ext cx="1371600" cy="1752480"/>
            <a:chOff x="1905120" y="1752480"/>
            <a:chExt cx="1371600" cy="1752480"/>
          </a:xfrm>
        </p:grpSpPr>
        <p:sp>
          <p:nvSpPr>
            <p:cNvPr id="85" name=""/>
            <p:cNvSpPr/>
            <p:nvPr/>
          </p:nvSpPr>
          <p:spPr>
            <a:xfrm>
              <a:off x="1905120" y="175248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981440" y="1828800"/>
              <a:ext cx="12096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3429000" y="1752480"/>
            <a:ext cx="1371600" cy="1752480"/>
            <a:chOff x="3429000" y="1752480"/>
            <a:chExt cx="1371600" cy="1752480"/>
          </a:xfrm>
        </p:grpSpPr>
        <p:sp>
          <p:nvSpPr>
            <p:cNvPr id="88" name=""/>
            <p:cNvSpPr/>
            <p:nvPr/>
          </p:nvSpPr>
          <p:spPr>
            <a:xfrm>
              <a:off x="3429000" y="175248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3505320" y="1828800"/>
              <a:ext cx="1238400" cy="162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"/>
          <p:cNvSpPr/>
          <p:nvPr/>
        </p:nvSpPr>
        <p:spPr>
          <a:xfrm>
            <a:off x="1523880" y="914400"/>
            <a:ext cx="373392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ΣΘΕΝ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ΗΛΕΠΙ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553080"/>
            <a:ext cx="34290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αθηματικό Υπόβαθρ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μάδ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05320" y="5029200"/>
            <a:ext cx="1143000" cy="1219320"/>
            <a:chOff x="3505320" y="5029200"/>
            <a:chExt cx="1143000" cy="1219320"/>
          </a:xfrm>
        </p:grpSpPr>
        <p:sp>
          <p:nvSpPr>
            <p:cNvPr id="93" name=""/>
            <p:cNvSpPr/>
            <p:nvPr/>
          </p:nvSpPr>
          <p:spPr>
            <a:xfrm>
              <a:off x="3505320" y="5029200"/>
              <a:ext cx="11430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3657600" y="5105520"/>
              <a:ext cx="876240" cy="106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5029200" y="5029200"/>
            <a:ext cx="1143000" cy="1219320"/>
            <a:chOff x="5029200" y="5029200"/>
            <a:chExt cx="1143000" cy="1219320"/>
          </a:xfrm>
        </p:grpSpPr>
        <p:sp>
          <p:nvSpPr>
            <p:cNvPr id="96" name=""/>
            <p:cNvSpPr/>
            <p:nvPr/>
          </p:nvSpPr>
          <p:spPr>
            <a:xfrm>
              <a:off x="5029200" y="5029200"/>
              <a:ext cx="114300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5181840" y="5105520"/>
              <a:ext cx="83808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380880" y="1752480"/>
            <a:ext cx="1371600" cy="1752840"/>
            <a:chOff x="380880" y="1752480"/>
            <a:chExt cx="1371600" cy="1752840"/>
          </a:xfrm>
        </p:grpSpPr>
        <p:sp>
          <p:nvSpPr>
            <p:cNvPr id="99" name=""/>
            <p:cNvSpPr/>
            <p:nvPr/>
          </p:nvSpPr>
          <p:spPr>
            <a:xfrm>
              <a:off x="380880" y="1752480"/>
              <a:ext cx="1371600" cy="175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457200" y="1828800"/>
              <a:ext cx="120960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380880" y="3733920"/>
            <a:ext cx="2819520" cy="2590560"/>
            <a:chOff x="380880" y="3733920"/>
            <a:chExt cx="2819520" cy="2590560"/>
          </a:xfrm>
        </p:grpSpPr>
        <p:grpSp>
          <p:nvGrpSpPr>
            <p:cNvPr id="102" name=""/>
            <p:cNvGrpSpPr/>
            <p:nvPr/>
          </p:nvGrpSpPr>
          <p:grpSpPr>
            <a:xfrm>
              <a:off x="380880" y="3733920"/>
              <a:ext cx="2819520" cy="2590560"/>
              <a:chOff x="380880" y="3733920"/>
              <a:chExt cx="2819520" cy="2590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80880" y="3733920"/>
                <a:ext cx="2819520" cy="2590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57200" y="3809880"/>
                <a:ext cx="2685960" cy="2438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"/>
            <p:cNvSpPr/>
            <p:nvPr/>
          </p:nvSpPr>
          <p:spPr>
            <a:xfrm>
              <a:off x="1295280" y="4038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429000" y="3886200"/>
            <a:ext cx="32004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Σωμ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ιδίων: διπλέτ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7696080"/>
            <a:ext cx="548640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Διαδότη: τριπλέτ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Z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343400" y="6553080"/>
            <a:ext cx="1219320" cy="990360"/>
            <a:chOff x="4343400" y="6553080"/>
            <a:chExt cx="1219320" cy="990360"/>
          </a:xfrm>
        </p:grpSpPr>
        <p:sp>
          <p:nvSpPr>
            <p:cNvPr id="109" name=""/>
            <p:cNvSpPr/>
            <p:nvPr/>
          </p:nvSpPr>
          <p:spPr>
            <a:xfrm>
              <a:off x="4343400" y="6553080"/>
              <a:ext cx="121932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7"/>
            <a:stretch/>
          </p:blipFill>
          <p:spPr>
            <a:xfrm>
              <a:off x="4419720" y="6629040"/>
              <a:ext cx="99036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"/>
          <p:cNvSpPr/>
          <p:nvPr/>
        </p:nvSpPr>
        <p:spPr>
          <a:xfrm>
            <a:off x="228600" y="68580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" y="30492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954320" y="30492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029200" y="1752480"/>
            <a:ext cx="1371600" cy="1752840"/>
            <a:chOff x="5029200" y="1752480"/>
            <a:chExt cx="1371600" cy="1752840"/>
          </a:xfrm>
        </p:grpSpPr>
        <p:sp>
          <p:nvSpPr>
            <p:cNvPr id="115" name=""/>
            <p:cNvSpPr/>
            <p:nvPr/>
          </p:nvSpPr>
          <p:spPr>
            <a:xfrm>
              <a:off x="5029200" y="1752480"/>
              <a:ext cx="1371600" cy="175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8"/>
            <a:stretch/>
          </p:blipFill>
          <p:spPr>
            <a:xfrm>
              <a:off x="5105520" y="1828800"/>
              <a:ext cx="1247760" cy="165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/>
          <p:nvPr/>
        </p:nvSpPr>
        <p:spPr>
          <a:xfrm>
            <a:off x="-1616040" y="362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716292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762120"/>
            <a:ext cx="373392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ΙΣΧΥΡ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ΗΛΕΠΙΔΡΑ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3505320"/>
            <a:ext cx="3429000" cy="9144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Μαθηματικό Υπόβαθρο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Ομάδα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320040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Σωμα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ιδίων: τριπλέτ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4572000"/>
            <a:ext cx="3352680" cy="10666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ολλαπλότητα Διαδότη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κταπλέτ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 γκλουόνια 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81480" y="1600200"/>
            <a:ext cx="1371600" cy="1752480"/>
            <a:chOff x="5181480" y="1600200"/>
            <a:chExt cx="1371600" cy="1752480"/>
          </a:xfrm>
        </p:grpSpPr>
        <p:sp>
          <p:nvSpPr>
            <p:cNvPr id="124" name=""/>
            <p:cNvSpPr/>
            <p:nvPr/>
          </p:nvSpPr>
          <p:spPr>
            <a:xfrm>
              <a:off x="5181480" y="1600200"/>
              <a:ext cx="1371600" cy="17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5257440" y="1676160"/>
              <a:ext cx="1209960" cy="159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228600" y="1600200"/>
            <a:ext cx="4800600" cy="15238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ισχυρή αλληλεπίδραση είναι ο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n der Waals”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υνάμεις τ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ΒΑΝΤΙΚΗ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ΧΡΩΜΟΔΥΝΑΜΙΚ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600" y="5791320"/>
            <a:ext cx="1143000" cy="1218960"/>
            <a:chOff x="3657600" y="5791320"/>
            <a:chExt cx="1143000" cy="1218960"/>
          </a:xfrm>
        </p:grpSpPr>
        <p:sp>
          <p:nvSpPr>
            <p:cNvPr id="128" name=""/>
            <p:cNvSpPr/>
            <p:nvPr/>
          </p:nvSpPr>
          <p:spPr>
            <a:xfrm>
              <a:off x="3657600" y="5791320"/>
              <a:ext cx="114300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3733560" y="5867280"/>
              <a:ext cx="943200" cy="106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"/>
          <p:cNvGrpSpPr/>
          <p:nvPr/>
        </p:nvGrpSpPr>
        <p:grpSpPr>
          <a:xfrm>
            <a:off x="5105520" y="5791320"/>
            <a:ext cx="1371600" cy="1218960"/>
            <a:chOff x="5105520" y="5791320"/>
            <a:chExt cx="1371600" cy="1218960"/>
          </a:xfrm>
        </p:grpSpPr>
        <p:sp>
          <p:nvSpPr>
            <p:cNvPr id="131" name=""/>
            <p:cNvSpPr/>
            <p:nvPr/>
          </p:nvSpPr>
          <p:spPr>
            <a:xfrm>
              <a:off x="5105520" y="5791320"/>
              <a:ext cx="137160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5410440" y="5867280"/>
              <a:ext cx="876240" cy="108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228600" y="7162920"/>
            <a:ext cx="6400800" cy="17524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Δεν μπορούν να παρατηρηθούν ελ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θερα κουάρ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και γκλουόνια. Η Ισχυρή αλληλεπίδρασ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μεταξύ των αδρονίων γίνεται με ανταλλαγ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άχρωμων” καταστάσε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28600" y="3429000"/>
            <a:ext cx="2819520" cy="2438280"/>
            <a:chOff x="228600" y="3429000"/>
            <a:chExt cx="2819520" cy="2438280"/>
          </a:xfrm>
        </p:grpSpPr>
        <p:sp>
          <p:nvSpPr>
            <p:cNvPr id="135" name=""/>
            <p:cNvSpPr/>
            <p:nvPr/>
          </p:nvSpPr>
          <p:spPr>
            <a:xfrm>
              <a:off x="228600" y="3429000"/>
              <a:ext cx="281952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4"/>
            <a:stretch/>
          </p:blipFill>
          <p:spPr>
            <a:xfrm>
              <a:off x="304920" y="3624120"/>
              <a:ext cx="2685960" cy="193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371600" y="388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685800"/>
            <a:ext cx="464832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Η ΕΝΝΟΙΑ ΤΗΣ ΕΝΟΠΟΙΗ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371600"/>
            <a:ext cx="601992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Προσπάθεια περιγραφής “πολλών” από όσ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το δυνατόν πιο “λίγα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362320"/>
            <a:ext cx="46483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ewton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νοποίηση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πίγεια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α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Ουράνεια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Μηχανικ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3429000"/>
            <a:ext cx="4648320" cy="838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xwel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ενοποίηση Φωτό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Ηλεκτρισμού και Μαγνητισμο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4419720"/>
            <a:ext cx="46483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instein: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νοποίηση Βαρύτητ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αι Γεωμετρίας του Χωρο-χρόνο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2514600"/>
            <a:ext cx="1218960" cy="685800"/>
          </a:xfrm>
          <a:prstGeom prst="rightArrow">
            <a:avLst>
              <a:gd name="adj1" fmla="val 50000"/>
              <a:gd name="adj2" fmla="val 44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505320"/>
            <a:ext cx="1218960" cy="685800"/>
          </a:xfrm>
          <a:prstGeom prst="rightArrow">
            <a:avLst>
              <a:gd name="adj1" fmla="val 50000"/>
              <a:gd name="adj2" fmla="val 44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495680"/>
            <a:ext cx="1218960" cy="685800"/>
          </a:xfrm>
          <a:prstGeom prst="rightArrow">
            <a:avLst>
              <a:gd name="adj1" fmla="val 50000"/>
              <a:gd name="adj2" fmla="val 44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5486400"/>
            <a:ext cx="464832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νοποίηση Ασθενού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αι Ηλεκτρομαγνητική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ηλεπίδραση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5638680"/>
            <a:ext cx="1218960" cy="685800"/>
          </a:xfrm>
          <a:prstGeom prst="rightArrow">
            <a:avLst>
              <a:gd name="adj1" fmla="val 50000"/>
              <a:gd name="adj2" fmla="val 4443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6858000"/>
            <a:ext cx="601992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ά ΠΩΣ τις ενοποιούμε ότα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1) Εχουν τόσο διαφορετική ισχύ (1:1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3) Οι Θεωρίες Βαθμίδας έχουν άμαζ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ιαδότες ενώ η Ασθενής αλληλεπίδρασ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θέλε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διαδότες με μάζ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00200" y="762120"/>
            <a:ext cx="3733920" cy="533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Το ΦΑΙΝΟΜΕΝΟ ΗI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523880"/>
            <a:ext cx="563868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ι εξισώσεις που περιγράφουν τ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Θεωρία είναι αναλλοίωτες στ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μμετρία Βαθμίδας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ΛΛ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κατανομή των πεδίων στην ελάχιστ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ενέργεια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ΕΝ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l-GR" sz="2400" spc="-1" strike="noStrike" u="sng">
                <a:solidFill>
                  <a:srgbClr val="ccccff"/>
                </a:solidFill>
                <a:uFillTx/>
                <a:latin typeface="Times New Roman"/>
              </a:rPr>
              <a:t>ΔΕΝ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είνα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114800"/>
            <a:ext cx="5943600" cy="2514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Η ανάπτυξη της θεωρί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στο ΜΗ ΣΥΜΜΕΤΡΙΚ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κενό, μας “κρύβει” τ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συμμετρία μας. Αυτό μ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επιτρέπει να δίνουμε μάζ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στους διαδότε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2152440" cy="1828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H="1">
            <a:off x="1904760" y="5105520"/>
            <a:ext cx="2438280" cy="99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6858000"/>
            <a:ext cx="6324480" cy="1828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Η παρουσία του ΜΗ ΣΥΜΜΕΤΡΙΚΟΥ κενο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επιτυγχάνεται με την προσθήκη του σωματιδίο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gs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με κατάλληλο δυναμικό. Οι αλληλεπιδρά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εις το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gs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 δίνουν μάζα στα κουάρκ κα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α λεπτόνι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609480" y="4495680"/>
            <a:ext cx="1905120" cy="1981080"/>
            <a:chOff x="609480" y="4495680"/>
            <a:chExt cx="1905120" cy="1981080"/>
          </a:xfrm>
        </p:grpSpPr>
        <p:sp>
          <p:nvSpPr>
            <p:cNvPr id="165" name=""/>
            <p:cNvSpPr/>
            <p:nvPr/>
          </p:nvSpPr>
          <p:spPr>
            <a:xfrm>
              <a:off x="609480" y="4495680"/>
              <a:ext cx="1905120" cy="1981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62120" y="4647960"/>
              <a:ext cx="1657080" cy="1609560"/>
              <a:chOff x="762120" y="4647960"/>
              <a:chExt cx="1657080" cy="1609560"/>
            </a:xfrm>
          </p:grpSpPr>
          <p:pic>
            <p:nvPicPr>
              <p:cNvPr id="16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4647960"/>
                <a:ext cx="1657080" cy="16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1371240" y="601956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99840" y="51811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4038480" y="4495680"/>
            <a:ext cx="2133720" cy="1981080"/>
            <a:chOff x="4038480" y="4495680"/>
            <a:chExt cx="2133720" cy="1981080"/>
          </a:xfrm>
        </p:grpSpPr>
        <p:sp>
          <p:nvSpPr>
            <p:cNvPr id="171" name=""/>
            <p:cNvSpPr/>
            <p:nvPr/>
          </p:nvSpPr>
          <p:spPr>
            <a:xfrm>
              <a:off x="4038480" y="4495680"/>
              <a:ext cx="2133720" cy="1981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191120" y="4724280"/>
              <a:ext cx="1790640" cy="15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2590920" y="4800600"/>
            <a:ext cx="1447560" cy="1504800"/>
            <a:chOff x="2590920" y="4800600"/>
            <a:chExt cx="1447560" cy="1504800"/>
          </a:xfrm>
        </p:grpSpPr>
        <p:sp>
          <p:nvSpPr>
            <p:cNvPr id="174" name=""/>
            <p:cNvSpPr/>
            <p:nvPr/>
          </p:nvSpPr>
          <p:spPr>
            <a:xfrm>
              <a:off x="2590920" y="6019560"/>
              <a:ext cx="228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90920" y="4800600"/>
              <a:ext cx="1447560" cy="1504800"/>
              <a:chOff x="2590920" y="4800600"/>
              <a:chExt cx="1447560" cy="150480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2743200" y="4800600"/>
                <a:ext cx="1295280" cy="1504800"/>
                <a:chOff x="2743200" y="4800600"/>
                <a:chExt cx="1295280" cy="1504800"/>
              </a:xfrm>
            </p:grpSpPr>
            <p:pic>
              <p:nvPicPr>
                <p:cNvPr id="17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43200" y="4800600"/>
                  <a:ext cx="1295280" cy="1504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8" name=""/>
                <p:cNvSpPr/>
                <p:nvPr/>
              </p:nvSpPr>
              <p:spPr>
                <a:xfrm>
                  <a:off x="2972520" y="533376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Higg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2666880" y="487656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666880" y="525780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90920" y="5638680"/>
                <a:ext cx="3045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19520" y="5638680"/>
                <a:ext cx="0" cy="380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19520" y="5867280"/>
                <a:ext cx="838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57600" y="5715000"/>
                <a:ext cx="0" cy="380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57600" y="5715000"/>
                <a:ext cx="3049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57600" y="6095880"/>
                <a:ext cx="3049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609480" y="2514600"/>
            <a:ext cx="5791320" cy="16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Ξεκινάμε με μια Θεωρία Βαθμίδας μ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+1 Αμαζους διαδότες και με τ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φαινόμενο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higgs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καταλήγουμε σ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3 διαδότες με μάζα και έναν άμαζ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09480" y="6629400"/>
            <a:ext cx="5791320" cy="1905120"/>
            <a:chOff x="609480" y="6629400"/>
            <a:chExt cx="5791320" cy="1905120"/>
          </a:xfrm>
        </p:grpSpPr>
        <p:sp>
          <p:nvSpPr>
            <p:cNvPr id="189" name=""/>
            <p:cNvSpPr/>
            <p:nvPr/>
          </p:nvSpPr>
          <p:spPr>
            <a:xfrm>
              <a:off x="609480" y="6629400"/>
              <a:ext cx="5791320" cy="1905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Οι εντάσεις των δυο αλληλεπιδράσεων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    SU(2), g’    U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</a:rPr>
                <a:t>Ηλεκτρομαγνητισμός……………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 sin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</a:rPr>
                <a:t>Ασθενής Αλληλεπίδραση…………..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/M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n</a:t>
              </a:r>
              <a:r>
                <a:rPr b="1" lang="el-GR" sz="2400" spc="-1" strike="noStrike">
                  <a:solidFill>
                    <a:srgbClr val="000000"/>
                  </a:solidFill>
                  <a:latin typeface="Times New Roman"/>
                </a:rPr>
                <a:t>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g’/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38280" y="7238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7238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62120" y="762120"/>
            <a:ext cx="5562360" cy="1523880"/>
            <a:chOff x="762120" y="762120"/>
            <a:chExt cx="5562360" cy="1523880"/>
          </a:xfrm>
        </p:grpSpPr>
        <p:sp>
          <p:nvSpPr>
            <p:cNvPr id="193" name=""/>
            <p:cNvSpPr/>
            <p:nvPr/>
          </p:nvSpPr>
          <p:spPr>
            <a:xfrm>
              <a:off x="762120" y="762120"/>
              <a:ext cx="5562360" cy="1295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Η ΕΝΟΠΟΙΗΣΗ ΤΩΝ ΑΣΘΕΝΩΝ ΚΑ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ΗΛΕΚΤΡΟΜΑΓΝΗΤΙΚΩ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ΑΛΛΗΛΕΠΙΔΡΑΣΕΩ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91120" y="2057400"/>
              <a:ext cx="213336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lashow, Weinberg, Sal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038480" y="4724280"/>
            <a:ext cx="2562480" cy="28767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533520" y="685800"/>
            <a:ext cx="59436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Αν προσθέσουμε και την Ισχυρή Αλληλ. μ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τη δική της ομάδα συμμετρίας: SU(3)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1828800"/>
            <a:ext cx="4876920" cy="12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ΚΑΘΙΕΡΩΜΕΝΟ ΠΡΟΤΥΠ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Standard Mod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(3)xSU(2)xU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200400"/>
            <a:ext cx="594360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που περιγράφει με ΕΚΠΛΗΚΤΙΚ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ακρίβεια, ΟΛΑ τα έως τωρα πειραμα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αποτελέσματ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181480"/>
            <a:ext cx="335268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εισάγουμε πολλέ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σταθερές “με το χέρι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" y="6172200"/>
            <a:ext cx="32767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μας “λείπει” το hi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7960" y="4627440"/>
            <a:ext cx="135108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33cc"/>
                </a:solidFill>
                <a:latin typeface="Times New Roman"/>
              </a:rPr>
              <a:t>ΑΛΛ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" y="7772400"/>
            <a:ext cx="56386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Θέλουμε να μικρύνουμε τον αριθμό τ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ελεύθερων παραμέτρω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678168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609480"/>
            <a:ext cx="640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4000" y="22860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Η ΦΥΣΙΚΗ ΣΤΟ ΠΡΟΣΚΗΝΙ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54320" y="228600"/>
            <a:ext cx="134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Μάρτιος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5T19:04:42Z</dcterms:created>
  <dc:creator>n.d. tracas</dc:creator>
  <dc:description/>
  <dc:language>en-US</dc:language>
  <cp:lastModifiedBy>NDT</cp:lastModifiedBy>
  <dcterms:modified xsi:type="dcterms:W3CDTF">2003-03-14T15:15:13Z</dcterms:modified>
  <cp:revision>87</cp:revision>
  <dc:subject/>
  <dc:title>No Slide Title</dc:title>
</cp:coreProperties>
</file>