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8E8E-BA9C-43FD-8291-56EA776C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782E-83AF-4E1F-90D5-2F51C921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518-EBA9-48D6-999B-FF859627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82C-0100-410F-946D-92925B98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2B2-C524-49FD-8004-9E64034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3D3-7D59-4FDD-BC2F-797D2C34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3CC1-0770-450A-A5BD-E06E728E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B8C-ED02-4ACB-AE8E-35AE0D52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633E-77CC-4244-9538-B1044E9D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4C8-84F5-4AE0-98C1-8A67A493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D9B-F487-46BB-BC9C-A63AFCA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BC2-A218-45D3-875A-11B13A4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B482-F114-4B1E-9FBE-D320674AE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25400" y="380880"/>
            <a:ext cx="332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ΕΩΡΙΕΣ ΒΑΘΜΙ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AUGE THE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21640" y="1336680"/>
            <a:ext cx="57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ι εξισώσεις κίνησης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grangian)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να είν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ναλλοίωτες σε μετασχηματισμό της μορφ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139840" y="2133720"/>
          <a:ext cx="197496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9840" y="2133720"/>
                    <a:ext cx="19749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219320" y="2819520"/>
          <a:ext cx="4267080" cy="78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4267080" cy="78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609480" y="3962520"/>
          <a:ext cx="1898640" cy="4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962520"/>
                    <a:ext cx="18986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609480" y="4457880"/>
          <a:ext cx="40388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457880"/>
                    <a:ext cx="40388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58720" y="5105520"/>
          <a:ext cx="3632400" cy="1639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5105520"/>
                    <a:ext cx="36324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20560" y="697536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λλά, α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057400" y="7010280"/>
          <a:ext cx="1371600" cy="42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7010280"/>
                    <a:ext cx="137160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09480" y="7543800"/>
          <a:ext cx="1473480" cy="366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9480" y="7543800"/>
                    <a:ext cx="147348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33520" y="7981920"/>
          <a:ext cx="3270240" cy="781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520" y="7981920"/>
                    <a:ext cx="327024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650120" y="441972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Αναλλοίωτ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8040" y="800100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ΔΕΝ παραμέν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ναλλοίωτ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6040" y="270000"/>
            <a:ext cx="41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Αν κάνουμε την αντικατάσταση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08200" y="762120"/>
          <a:ext cx="2787480" cy="110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8200" y="762120"/>
                    <a:ext cx="278748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18760" y="209880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τότε η ποσότητ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066680" y="2514600"/>
          <a:ext cx="426744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514600"/>
                    <a:ext cx="4267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20560" y="3622680"/>
            <a:ext cx="34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παραμένει αναλλοίωτη α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4106880"/>
          <a:ext cx="2184480" cy="6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06880"/>
                    <a:ext cx="21844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00400" y="4038480"/>
          <a:ext cx="251460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4038480"/>
                    <a:ext cx="25146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595440" y="4842000"/>
            <a:ext cx="54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Το πεδίο                αποτελεί το διαδότη 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λληλεπίδρασης με σταθερά ζεύξης το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05120" y="4876920"/>
          <a:ext cx="990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4876920"/>
                    <a:ext cx="990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4:30:04Z</dcterms:created>
  <dc:creator>NDT</dc:creator>
  <dc:description/>
  <dc:language>en-US</dc:language>
  <cp:lastModifiedBy>NDT</cp:lastModifiedBy>
  <dcterms:modified xsi:type="dcterms:W3CDTF">2003-03-14T15:09:02Z</dcterms:modified>
  <cp:revision>1</cp:revision>
  <dc:subject/>
  <dc:title>No Slide Title</dc:title>
</cp:coreProperties>
</file>